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notesSlide6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png" ContentType="image/png"/>
  <Override PartName="/ppt/media/image34.png" ContentType="image/png"/>
  <Override PartName="/ppt/media/image12.jpeg" ContentType="image/jpeg"/>
  <Override PartName="/ppt/media/image7.jpeg" ContentType="image/jpeg"/>
  <Override PartName="/ppt/media/image5.jpeg" ContentType="image/jpeg"/>
  <Override PartName="/ppt/media/image61.png" ContentType="image/png"/>
  <Override PartName="/ppt/media/image4.jpeg" ContentType="image/jpeg"/>
  <Override PartName="/ppt/media/image2.png" ContentType="image/png"/>
  <Override PartName="/ppt/media/image32.png" ContentType="image/png"/>
  <Override PartName="/ppt/media/image30.png" ContentType="image/png"/>
  <Override PartName="/ppt/media/image48.png" ContentType="image/png"/>
  <Override PartName="/ppt/media/image11.png" ContentType="image/png"/>
  <Override PartName="/ppt/media/image19.jpeg" ContentType="image/jpeg"/>
  <Override PartName="/ppt/media/image6.jpeg" ContentType="image/jpeg"/>
  <Override PartName="/ppt/media/image60.png" ContentType="image/png"/>
  <Override PartName="/ppt/media/image10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24.wmf" ContentType="image/x-wmf"/>
  <Override PartName="/ppt/media/image59.jpeg" ContentType="image/jpeg"/>
  <Override PartName="/ppt/media/image21.jpeg" ContentType="image/jpeg"/>
  <Override PartName="/ppt/media/image29.png" ContentType="image/png"/>
  <Override PartName="/ppt/media/image27.wmf" ContentType="image/x-wmf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8.jpeg" ContentType="image/jpeg"/>
  <Override PartName="/ppt/media/image38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31.png" ContentType="image/png"/>
  <Override PartName="/ppt/media/image33.jpeg" ContentType="image/jpeg"/>
  <Override PartName="/ppt/media/image35.png" ContentType="image/png"/>
  <Override PartName="/ppt/media/image28.png" ContentType="image/png"/>
  <Override PartName="/ppt/media/image43.jpeg" ContentType="image/jpeg"/>
  <Override PartName="/ppt/media/image9.jpeg" ContentType="image/jpeg"/>
  <Override PartName="/ppt/media/image36.png" ContentType="image/png"/>
  <Override PartName="/ppt/media/image37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5.png" ContentType="image/png"/>
  <Override PartName="/ppt/media/image46.png" ContentType="image/png"/>
  <Override PartName="/ppt/media/image25.wmf" ContentType="image/x-wmf"/>
  <Override PartName="/ppt/media/image47.jpeg" ContentType="image/jpeg"/>
  <Override PartName="/ppt/media/image49.jpeg" ContentType="image/jpeg"/>
  <Override PartName="/ppt/media/image50.jpeg" ContentType="image/jpeg"/>
  <Override PartName="/ppt/media/image51.jpeg" ContentType="image/jpeg"/>
  <Override PartName="/ppt/media/image52.jpeg" ContentType="image/jpeg"/>
  <Override PartName="/ppt/media/image23.png" ContentType="image/png"/>
  <Override PartName="/ppt/media/image53.jpeg" ContentType="image/jpeg"/>
  <Override PartName="/ppt/media/image54.jpeg" ContentType="image/jpeg"/>
  <Override PartName="/ppt/media/image20.jpeg" ContentType="image/jpeg"/>
  <Override PartName="/ppt/media/image55.png" ContentType="image/png"/>
  <Override PartName="/ppt/media/image5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C5A1-542E-4855-89BE-8E39832A6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381E-972C-413E-9613-87E43689B9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E8AA-2821-4D6D-A482-E2268ADC3E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questions associated with our linkage work. I will read the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9ADA-9E25-4EAF-9BC4-5096AC9D1A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book was published about a year ago. It is a third edition of Linking NIC and NOC to NANDA International diagnoses. This is useful in Practice, education and 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EB24-FDE5-46E3-92A5-F0D2FEF4F6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225D-0504-4865-B55E-81A6C08106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 example of a NNN linkage for the nursing diagnosis of Anxiety. ( I will read the components of the slide to aid transl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2164-4943-4FF6-8014-F30FF7983E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 example of a NNN linkage for the nursing diagnosis of Anxiety. ( I will read the components of the slide to aid transl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A5CA-4ED2-45BE-9C82-E2FBEACB6E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graph example of how these linkages and be used and included in an electronic information system. These linkages support the clinical reasoning of the nu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E778-554F-4561-BC4F-634EEE5655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 example of a NNN linkage for the nursing diagnosis of Anxiety. ( I will read the components of the slide to aid transl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5321-9EFB-4E74-B13E-1A94D09CC3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graph example of how these linkages and be used and included in an electronic information system. These linkages support the clinical reasoning of the nu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6F5E-844A-4126-80F7-FBF9CB27F1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 example of a NNN linkage for the nursing diagnosis of Anxiety. ( I will read the components of the slide to aid transl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2D59-A1A9-4310-B826-71573B8AE2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graph example of how these linkages and be used and included in an electronic information system. These linkages support the clinical reasoning of the nu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A6D3-60E4-4222-BF9B-4511CE7B24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so linked NICs and NOCs to the Risk for diagnoses such as risk for infection. ( I will read the slid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6318-5884-45A4-9A96-B18800335E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outcomes associated with the risk factors for infection. These help nurses prevention the diagnosis of inf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0DA2-C4CF-45B0-B66B-1F2E94D414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2F57-799A-4457-A9BB-EADCF08C96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examples of interventions that are associated with prevention of infection. (I will read a few of the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CB37-E5E6-4D64-A299-DAAD632891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graph example of how these linkages can be used and included in an electronic information system. These linkages support the clinical reasoning of the nu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2EC8-C9BF-44CC-AF77-F869040E00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 example of a NNN linkage for the nursing diagnosis Knowledge: Readiness for Enhanced. ( I will read the components of the slide to aid transl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D653-2127-4EF4-8FD5-AD91E9274F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graph example of how these linkages and be used and included in an electronic information system. These linkages support the clinical reasoning of the nu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E8C1-5F21-43B9-B4D9-36C10BCE6F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graph example of how these linkages and be used and included in an electronic information system. These linkages support the clinical reasoning of the nu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E87E-0470-4433-975B-D511DEF729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xt 2 slides highlight research by one of my students. She collected data on 4 oncology units at a large Midwestern hospital over 2 months. For patients with the diagnosis of acute pain, 50% improved, 35% remained the same and 15% had more p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F64D-D2A0-4691-A3D2-449208607D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E657-70AB-4E67-9C0F-86378D4651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advantages to using NOC in specialty practice. (I will read the slid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63A6-7EBE-433E-A7F3-A62D0BCD01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 definition for core outcome for specialty practice. (I will read the slid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F7F0-A582-4D86-8BCA-29FC62F1CD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the top 7 outcomes identified for gerontology. (I will read the li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BE50-70CE-40AF-89C5-D1388C5EA6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top 8 for medical surgical nursing. (I will read the list). Med-surg nurses identified 77 core outcomes for their 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FA2A-96A7-48F5-9895-BDA657E6F0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DFB6-0FDC-4106-86AA-3CD5A82AE7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38E1-55BE-4170-A0C6-2444781083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862D-BED3-4C86-9ED8-6DF9AA2BC3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E8E5-E01F-404A-86F0-2C329C949B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D089-759D-43C0-A64B-BFBEBA1CF6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96E4-7EE9-4A44-8FC9-FF8207D5F8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ll read this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F756-CDA8-4225-B04B-E0764F8E2A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my contact information and a picture of our colle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83A4-3399-408F-A646-F86C668593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6656-3D44-4516-AD63-F240BBE6E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E29A-F7B3-4F46-99BC-97743425D9F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6A1F-E552-491C-9423-97F8ECB4D0A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D4C52-3C84-4FFB-92C1-E0F21191535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17A6-4503-4736-923E-39EDDA27ADE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A37E-F012-4B4F-A282-5F574E2E3B1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F693-1C39-4A2D-ACDA-F4712B33B0E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93CF-956C-4675-91B7-C3A3CDB9D27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C098-66DA-409A-8F4D-1C2A4431AED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5A301-7F86-4563-A5D5-6AA71D1BC40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0404-318D-4F82-A208-4B9988241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D660-669E-456C-AE5C-B8C1F526AF8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C38A1-5B74-4530-B725-9C2EB0AF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67938-804F-4AA4-8A64-1FE90DD1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E858F-6BF2-423A-9AFD-50849CB9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A51CF-E61E-4B26-A7E6-E5EE94A0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911C6-426E-451B-B91C-65281324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5B32A-5A4F-4677-8E39-1A0A89C1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E29AC-02EC-4E0C-9CED-D9D98B44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43970-1B90-4A65-B4F0-2E8743C3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7CAC9-F53E-4852-A477-9A0F4A9A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8DDFE-8B91-40B7-98FC-A71475BF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32A02-429C-4A5D-A405-4D823BAA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B965D-6AAF-498D-A3F0-6588B875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7" descr="http://www.bigdaddygypsy.com/media/catalog/product/cache/1/image/8a02aedcaf38ad3a98187ab0a1dede95/c/r/crushedvelvet_panne_burgundy.jpg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" name="Text Box 13"/>
          <p:cNvSpPr/>
          <p:nvPr/>
        </p:nvSpPr>
        <p:spPr>
          <a:xfrm rot="16200000">
            <a:off x="-2855520" y="3092400"/>
            <a:ext cx="685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entury Gothic"/>
              </a:rPr>
              <a:t>NANDA-I    NIC    NO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2"/>
          <p:cNvSpPr/>
          <p:nvPr/>
        </p:nvSpPr>
        <p:spPr>
          <a:xfrm>
            <a:off x="419040" y="210168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2"/>
          <p:cNvSpPr/>
          <p:nvPr/>
        </p:nvSpPr>
        <p:spPr>
          <a:xfrm>
            <a:off x="468360" y="350532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http://www.bigdaddygypsy.com/media/catalog/product/cache/1/image/8a02aedcaf38ad3a98187ab0a1dede95/c/r/crushedvelvet_panne_burgundy.jpg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5" name="Text Box 13"/>
          <p:cNvSpPr/>
          <p:nvPr/>
        </p:nvSpPr>
        <p:spPr>
          <a:xfrm rot="16200000">
            <a:off x="-2855520" y="3092400"/>
            <a:ext cx="685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7f7f7f"/>
                </a:solidFill>
                <a:latin typeface="Century Gothic"/>
              </a:rPr>
              <a:t>NANDA-I    NIC    </a:t>
            </a:r>
            <a:r>
              <a:rPr b="1" lang="en-US" sz="3800" spc="-1" strike="noStrike">
                <a:solidFill>
                  <a:srgbClr val="ffffff"/>
                </a:solidFill>
                <a:latin typeface="Century Gothic"/>
              </a:rPr>
              <a:t>NO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19040" y="210168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2"/>
          <p:cNvSpPr/>
          <p:nvPr/>
        </p:nvSpPr>
        <p:spPr>
          <a:xfrm>
            <a:off x="468360" y="350532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7" descr="http://www.bigdaddygypsy.com/media/catalog/product/cache/1/image/8a02aedcaf38ad3a98187ab0a1dede95/c/r/crushedvelvet_panne_burgundy.jpg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7" name="Text Box 13"/>
          <p:cNvSpPr/>
          <p:nvPr/>
        </p:nvSpPr>
        <p:spPr>
          <a:xfrm rot="16200000">
            <a:off x="-2855520" y="3092400"/>
            <a:ext cx="685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7f7f7f"/>
                </a:solidFill>
                <a:latin typeface="Century Gothic"/>
              </a:rPr>
              <a:t>NANDA-I</a:t>
            </a:r>
            <a:r>
              <a:rPr b="1" lang="en-US" sz="3800" spc="-1" strike="noStrike">
                <a:solidFill>
                  <a:srgbClr val="ffffff"/>
                </a:solidFill>
                <a:latin typeface="Century Gothic"/>
              </a:rPr>
              <a:t>    NIC    </a:t>
            </a:r>
            <a:r>
              <a:rPr b="1" lang="en-US" sz="3800" spc="-1" strike="noStrike">
                <a:solidFill>
                  <a:srgbClr val="7f7f7f"/>
                </a:solidFill>
                <a:latin typeface="Century Gothic"/>
              </a:rPr>
              <a:t>NO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419040" y="210168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468360" y="350532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http://www.bigdaddygypsy.com/media/catalog/product/cache/1/image/8a02aedcaf38ad3a98187ab0a1dede95/c/r/crushedvelvet_panne_burgundy.jpg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9" name="Text Box 13"/>
          <p:cNvSpPr/>
          <p:nvPr/>
        </p:nvSpPr>
        <p:spPr>
          <a:xfrm rot="16200000">
            <a:off x="-2855520" y="3092400"/>
            <a:ext cx="685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7f7f7f"/>
                </a:solidFill>
                <a:latin typeface="Century Gothic"/>
              </a:rPr>
              <a:t>NANDA-I</a:t>
            </a:r>
            <a:r>
              <a:rPr b="1" lang="en-US" sz="3800" spc="-1" strike="noStrike">
                <a:solidFill>
                  <a:srgbClr val="ffffff"/>
                </a:solidFill>
                <a:latin typeface="Century Gothic"/>
              </a:rPr>
              <a:t>    NIC    NO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419040" y="210168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468360" y="350532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http://www.bigdaddygypsy.com/media/catalog/product/cache/1/image/8a02aedcaf38ad3a98187ab0a1dede95/c/r/crushedvelvet_panne_burgundy.jpg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69" name="Text Box 13"/>
          <p:cNvSpPr/>
          <p:nvPr/>
        </p:nvSpPr>
        <p:spPr>
          <a:xfrm rot="16200000">
            <a:off x="-2855520" y="3092400"/>
            <a:ext cx="685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entury Gothic"/>
              </a:rPr>
              <a:t>NANDA-I    NIC    NO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419040" y="210168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"/>
          <p:cNvSpPr/>
          <p:nvPr/>
        </p:nvSpPr>
        <p:spPr>
          <a:xfrm>
            <a:off x="468360" y="350532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7379-2355-4A21-8779-2D11481974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http://www.bigdaddygypsy.com/media/catalog/product/cache/1/image/8a02aedcaf38ad3a98187ab0a1dede95/c/r/crushedvelvet_panne_burgundy.jpg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12" name="Text Box 13"/>
          <p:cNvSpPr/>
          <p:nvPr/>
        </p:nvSpPr>
        <p:spPr>
          <a:xfrm rot="16200000">
            <a:off x="-2855520" y="3092400"/>
            <a:ext cx="685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entury Gothic"/>
              </a:rPr>
              <a:t>NANDA-I    NIC    NO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"/>
          <p:cNvSpPr/>
          <p:nvPr/>
        </p:nvSpPr>
        <p:spPr>
          <a:xfrm>
            <a:off x="419040" y="210168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"/>
          <p:cNvSpPr/>
          <p:nvPr/>
        </p:nvSpPr>
        <p:spPr>
          <a:xfrm>
            <a:off x="468360" y="350532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-25560" y="6172200"/>
            <a:ext cx="9234720" cy="685800"/>
          </a:xfrm>
          <a:prstGeom prst="rect">
            <a:avLst/>
          </a:prstGeom>
          <a:solidFill>
            <a:srgbClr val="ff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8"/>
          <p:cNvSpPr/>
          <p:nvPr/>
        </p:nvSpPr>
        <p:spPr>
          <a:xfrm>
            <a:off x="762120" y="1479600"/>
            <a:ext cx="7467480" cy="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6/2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A955-A693-414F-90A7-2773A592B4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http://www.bigdaddygypsy.com/media/catalog/product/cache/1/image/8a02aedcaf38ad3a98187ab0a1dede95/c/r/crushedvelvet_panne_burgundy.jpg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59" name="Text Box 13"/>
          <p:cNvSpPr/>
          <p:nvPr/>
        </p:nvSpPr>
        <p:spPr>
          <a:xfrm rot="16200000">
            <a:off x="-2855520" y="3092400"/>
            <a:ext cx="685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7f7f7f"/>
                </a:solidFill>
                <a:latin typeface="Century Gothic"/>
              </a:rPr>
              <a:t>NANDA-I</a:t>
            </a:r>
            <a:r>
              <a:rPr b="1" lang="en-US" sz="3800" spc="-1" strike="noStrike">
                <a:solidFill>
                  <a:srgbClr val="ffffff"/>
                </a:solidFill>
                <a:latin typeface="Century Gothic"/>
              </a:rPr>
              <a:t>    NIC    NO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"/>
          <p:cNvSpPr/>
          <p:nvPr/>
        </p:nvSpPr>
        <p:spPr>
          <a:xfrm>
            <a:off x="419040" y="210168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"/>
          <p:cNvSpPr/>
          <p:nvPr/>
        </p:nvSpPr>
        <p:spPr>
          <a:xfrm>
            <a:off x="468360" y="350532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5" descr="CONStackedBlack"/>
          <p:cNvPicPr/>
          <p:nvPr/>
        </p:nvPicPr>
        <p:blipFill>
          <a:blip r:embed="rId3"/>
          <a:stretch/>
        </p:blipFill>
        <p:spPr>
          <a:xfrm>
            <a:off x="7696080" y="5410080"/>
            <a:ext cx="1204920" cy="11271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6.pn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32.pn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1752480" y="380880"/>
            <a:ext cx="685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Best Practices in Nursing – Standardized Nursing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National Library of Esto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North Estonia Medical Centre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Tallinn, Estoni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November 8–9, 2017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se Study: Mr. K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 year old m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ves in own home with his wif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eated for congestive heart fail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ing 80 mg of Lasix each mor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ed activity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ss of strengt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romised mobil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3" descr="C:\Users\ssweeney\AppData\Local\Microsoft\Windows\Temporary Internet Files\Content.IE5\51UUINOY\Old_man_in_Kyrgyzstan,_2010[1].jpg"/>
          <p:cNvPicPr/>
          <p:nvPr/>
        </p:nvPicPr>
        <p:blipFill>
          <a:blip r:embed="rId1"/>
          <a:srcRect l="43138" t="0" r="0" b="0"/>
          <a:stretch/>
        </p:blipFill>
        <p:spPr>
          <a:xfrm>
            <a:off x="7772400" y="152280"/>
            <a:ext cx="990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se Study: Mr. K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ten does not remove clothing at night and resists changing clothes more that once or twice a wee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othes are frequently wet with ur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rinary output over 1000 ml/d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. K reports he knows when he has to urinate but cannot reach toil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ed fluid intake except for coffe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3" descr="C:\Users\ssweeney\AppData\Local\Microsoft\Windows\Temporary Internet Files\Content.IE5\51UUINOY\Old_man_in_Kyrgyzstan,_2010[1].jpg"/>
          <p:cNvPicPr/>
          <p:nvPr/>
        </p:nvPicPr>
        <p:blipFill>
          <a:blip r:embed="rId1"/>
          <a:srcRect l="43138" t="0" r="0" b="0"/>
          <a:stretch/>
        </p:blipFill>
        <p:spPr>
          <a:xfrm>
            <a:off x="7772400" y="152280"/>
            <a:ext cx="990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NDA-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218960" y="1447560"/>
            <a:ext cx="7762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llowing assessment, nurse documents signs and symptoms for two priority nursing diagnos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ge Urinary Incontine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ability to reach toilet in time to avoid urine lo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inary urgen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ileting Self-Care Defic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aired ability to reach toil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aired ability to complete toilet hygie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aired ability to manipulate clothing for toilet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3" descr="C:\Users\ssweeney\AppData\Local\Microsoft\Windows\Temporary Internet Files\Content.IE5\51UUINOY\Old_man_in_Kyrgyzstan,_2010[1].jpg"/>
          <p:cNvPicPr/>
          <p:nvPr/>
        </p:nvPicPr>
        <p:blipFill>
          <a:blip r:embed="rId1"/>
          <a:srcRect l="43138" t="0" r="0" b="0"/>
          <a:stretch/>
        </p:blipFill>
        <p:spPr>
          <a:xfrm>
            <a:off x="7772400" y="152280"/>
            <a:ext cx="990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NDA-I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rge Urinary Incontinen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218960" y="1828440"/>
            <a:ext cx="38098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Urinary Continence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Knowledge: Prescribed Medica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5029200" y="1828800"/>
            <a:ext cx="403848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Urinary Habi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Urinary Incontinence C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Pelvic Muscle Exerc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1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eaching: Prescribed Med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C:\Users\ssweeney\AppData\Local\Microsoft\Windows\Temporary Internet Files\Content.IE5\51UUINOY\Old_man_in_Kyrgyzstan,_2010[1].jpg"/>
          <p:cNvPicPr/>
          <p:nvPr/>
        </p:nvPicPr>
        <p:blipFill>
          <a:blip r:embed="rId1"/>
          <a:srcRect l="43138" t="0" r="0" b="0"/>
          <a:stretch/>
        </p:blipFill>
        <p:spPr>
          <a:xfrm>
            <a:off x="7893000" y="228600"/>
            <a:ext cx="990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C Baseline Rat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218960" y="16002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erall NOC rating for Urinary Contin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7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ponds to urge in timely mann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s to toilet between urge and passage of urin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inks adequate amount of flui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ies medication that interferes with urinary contro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ed Mr. K as a “3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3" descr="C:\Users\ssweeney\AppData\Local\Microsoft\Windows\Temporary Internet Files\Content.IE5\51UUINOY\Old_man_in_Kyrgyzstan,_2010[1].jpg"/>
          <p:cNvPicPr/>
          <p:nvPr/>
        </p:nvPicPr>
        <p:blipFill>
          <a:blip r:embed="rId1"/>
          <a:srcRect l="43138" t="0" r="0" b="0"/>
          <a:stretch/>
        </p:blipFill>
        <p:spPr>
          <a:xfrm>
            <a:off x="7772400" y="152280"/>
            <a:ext cx="990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C Urinary Continence--050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3" descr=""/>
          <p:cNvPicPr/>
          <p:nvPr/>
        </p:nvPicPr>
        <p:blipFill>
          <a:blip r:embed="rId1"/>
          <a:srcRect l="0" t="0" r="5279" b="0"/>
          <a:stretch/>
        </p:blipFill>
        <p:spPr>
          <a:xfrm>
            <a:off x="41400" y="2666880"/>
            <a:ext cx="9077040" cy="2016360"/>
          </a:xfrm>
          <a:prstGeom prst="rect">
            <a:avLst/>
          </a:prstGeom>
          <a:ln w="0">
            <a:noFill/>
          </a:ln>
        </p:spPr>
      </p:pic>
      <p:sp>
        <p:nvSpPr>
          <p:cNvPr id="378" name="Oval 2"/>
          <p:cNvSpPr/>
          <p:nvPr/>
        </p:nvSpPr>
        <p:spPr>
          <a:xfrm>
            <a:off x="5773680" y="396252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IC Implement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752120" y="1905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rinary Habit Trai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ablished interval of initial toileting schedule based on voiding pattern and usual routin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couraged patient to toilet and void at prescribed interva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5" descr="C:\Users\ssweeney\AppData\Local\Microsoft\Windows\Temporary Internet Files\Content.IE5\7F6GMV81\MC900442001[1].png"/>
          <p:cNvPicPr/>
          <p:nvPr/>
        </p:nvPicPr>
        <p:blipFill>
          <a:blip r:embed="rId1"/>
          <a:stretch/>
        </p:blipFill>
        <p:spPr>
          <a:xfrm>
            <a:off x="6264360" y="4800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C:\Users\ssweeney\AppData\Local\Microsoft\Windows\Temporary Internet Files\Content.IE5\51UUINOY\Old_man_in_Kyrgyzstan,_2010[1].jpg"/>
          <p:cNvPicPr/>
          <p:nvPr/>
        </p:nvPicPr>
        <p:blipFill>
          <a:blip r:embed="rId2"/>
          <a:srcRect l="43138" t="0" r="0" b="0"/>
          <a:stretch/>
        </p:blipFill>
        <p:spPr>
          <a:xfrm>
            <a:off x="7772400" y="152280"/>
            <a:ext cx="990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19320" y="294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C Post Intervention Rat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47920" y="1600200"/>
            <a:ext cx="7238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erall NOC rating Urinary Contin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ponds to urge in timely mann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s to toilet between urge and passage of urin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inks adequate amount of flui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ies medication that interferes with urinary contro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ed Mr. K as a “4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C:\Users\ssweeney\AppData\Local\Microsoft\Windows\Temporary Internet Files\Content.IE5\51UUINOY\Old_man_in_Kyrgyzstan,_2010[1].jpg"/>
          <p:cNvPicPr/>
          <p:nvPr/>
        </p:nvPicPr>
        <p:blipFill>
          <a:blip r:embed="rId1"/>
          <a:srcRect l="43138" t="0" r="0" b="0"/>
          <a:stretch/>
        </p:blipFill>
        <p:spPr>
          <a:xfrm>
            <a:off x="7467480" y="5486400"/>
            <a:ext cx="990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C Urinary Continence--050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rcRect l="0" t="0" r="5279" b="0"/>
          <a:stretch/>
        </p:blipFill>
        <p:spPr>
          <a:xfrm>
            <a:off x="41400" y="2666880"/>
            <a:ext cx="9077040" cy="2016360"/>
          </a:xfrm>
          <a:prstGeom prst="rect">
            <a:avLst/>
          </a:prstGeom>
          <a:ln w="0">
            <a:noFill/>
          </a:ln>
        </p:spPr>
      </p:pic>
      <p:sp>
        <p:nvSpPr>
          <p:cNvPr id="388" name="Oval 2"/>
          <p:cNvSpPr/>
          <p:nvPr/>
        </p:nvSpPr>
        <p:spPr>
          <a:xfrm>
            <a:off x="7010280" y="396252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ting Indicator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possible to rate all indicato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we know some are more important than oth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…. we do not suggest adding the indicators to get an a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re research is needed to identify the critical indicators for each outco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1523880"/>
            <a:ext cx="81536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ing NNN Linkages as the Foundation of Building an Electronic Healthcare Record     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371600" y="403848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e Moorhead PhD, RN, FA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ociate Professor &amp; Director Center for Nursing Classification  &amp; Clinical Effective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ity of Iowa, Iowa City, 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1" descr="IEEE -CoNlogo_horizontal_BLACK&amp;GOLDsignature"/>
          <p:cNvPicPr/>
          <p:nvPr/>
        </p:nvPicPr>
        <p:blipFill>
          <a:blip r:embed="rId1"/>
          <a:stretch/>
        </p:blipFill>
        <p:spPr>
          <a:xfrm>
            <a:off x="6477120" y="404640"/>
            <a:ext cx="20764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engths of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2193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gnized terminologies by A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nical decision support framewor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idence-based plans of ca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fective nurse staff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fective student lear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fective staff education/evalu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earch-based nursing knowled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olves with changes in clinical practi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156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nkage Ques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47560" y="1447560"/>
            <a:ext cx="7467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outcomes and interventions are selected for a specific nursing diagnosis?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interventions are selected most frequently for a specific outcome or diagnosis?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interventions achieve the best outcomes for a specific population of patients?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nkage Ques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371240" y="1523520"/>
            <a:ext cx="76201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es the effectiveness of an intervention vary with patient characteristic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es the effectiveness of the intervention vary with provider characteristic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some interventions more effective when used in combination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es the frequency of an intervention have an impact on the outcome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55400" y="228240"/>
            <a:ext cx="7467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Three Editions of NNN Linkages</a:t>
            </a:r>
            <a:endParaRPr b="1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4" descr=""/>
          <p:cNvPicPr/>
          <p:nvPr/>
        </p:nvPicPr>
        <p:blipFill>
          <a:blip r:embed="rId1"/>
          <a:stretch/>
        </p:blipFill>
        <p:spPr>
          <a:xfrm>
            <a:off x="6781680" y="3581280"/>
            <a:ext cx="2041560" cy="24544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2057400" cy="2960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3"/>
          <a:stretch/>
        </p:blipFill>
        <p:spPr>
          <a:xfrm>
            <a:off x="1447920" y="1752480"/>
            <a:ext cx="205740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C and NIC Linkages 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NDA-I &amp; Clinical Condi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295280" y="17226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scribes relationships among NANDA-I, NOC, and NIC term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cludes examples of clinical condition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used i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3" descr="Linkage 3rd.jpg"/>
          <p:cNvPicPr/>
          <p:nvPr/>
        </p:nvPicPr>
        <p:blipFill>
          <a:blip r:embed="rId1"/>
          <a:stretch/>
        </p:blipFill>
        <p:spPr>
          <a:xfrm>
            <a:off x="5867280" y="2057400"/>
            <a:ext cx="29941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rking with Linkages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19320" y="1898280"/>
            <a:ext cx="743256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a Nursing Diagnosis and examine the list of NOCs and N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s are provided for all diagnoses and outcom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linkages have been validated with clinical research from actual patient data from EH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26E9-3D32-4669-8930-EC00FD53562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19320" y="213012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ahoma"/>
              </a:rPr>
              <a:t>Examples of Link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3" descr="C:\Users\ssweeney\AppData\Local\Microsoft\Windows\Temporary Internet Files\Content.IE5\51UUINOY\trabajo_en_equipo[1].jpg"/>
          <p:cNvPicPr/>
          <p:nvPr/>
        </p:nvPicPr>
        <p:blipFill>
          <a:blip r:embed="rId1"/>
          <a:stretch/>
        </p:blipFill>
        <p:spPr>
          <a:xfrm>
            <a:off x="3246480" y="3657600"/>
            <a:ext cx="2819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pecific format has been designed to assist nurses to chose outcomes and interventions for a NANDA-I diagnosi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imited number of outcomes are included for ease of u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ventions are divided into 2 categor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jor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ggest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2"/>
          <p:cNvSpPr/>
          <p:nvPr/>
        </p:nvSpPr>
        <p:spPr>
          <a:xfrm>
            <a:off x="1447920" y="2286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Nursing Diagnosis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Defini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295280" y="1428840"/>
          <a:ext cx="7772400" cy="4971960"/>
        </p:xfrm>
        <a:graphic>
          <a:graphicData uri="http://schemas.openxmlformats.org/drawingml/2006/table">
            <a:tbl>
              <a:tblPr/>
              <a:tblGrid>
                <a:gridCol w="1884600"/>
                <a:gridCol w="1884240"/>
                <a:gridCol w="1884240"/>
                <a:gridCol w="2119320"/>
              </a:tblGrid>
              <a:tr h="533160">
                <a:tc gridSpan="4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C – NIC LINKAGES FOR DIAGNO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20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come &amp; Defin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jor    Interven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ggest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ven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8600"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ursing Data for Electronic Health Record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ortant to capture nursing data to make the contributions of nurses to quality care visib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rsing terminologies provide the needed care plan data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rsing diagnos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rsing interven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tient outcom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" descr="http://www.bigdaddygypsy.com/media/catalog/product/cache/1/image/8a02aedcaf38ad3a98187ab0a1dede95/c/r/crushedvelvet_panne_burgundy.jpg"/>
          <p:cNvPicPr/>
          <p:nvPr/>
        </p:nvPicPr>
        <p:blipFill>
          <a:blip r:embed="rId1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313" name="Picture 2" descr="http://www.bigdaddygypsy.com/media/catalog/product/cache/1/image/8a02aedcaf38ad3a98187ab0a1dede95/c/r/crushedvelvet_panne_burgund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314" name="Picture 2" descr=""/>
          <p:cNvPicPr/>
          <p:nvPr/>
        </p:nvPicPr>
        <p:blipFill>
          <a:blip r:embed="rId3"/>
          <a:stretch/>
        </p:blipFill>
        <p:spPr>
          <a:xfrm>
            <a:off x="0" y="990720"/>
            <a:ext cx="841392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tual Problem Focus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ursing Diagnos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67652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xie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mpaired Skin Integr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ficient Fluid Volum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4" descr="C:\Users\moorhead\AppData\Local\Microsoft\Windows\Temporary Internet Files\Content.IE5\0M1VH00N\otros_trabajos_académicos[1].jpg"/>
          <p:cNvPicPr/>
          <p:nvPr/>
        </p:nvPicPr>
        <p:blipFill>
          <a:blip r:embed="rId1"/>
          <a:stretch/>
        </p:blipFill>
        <p:spPr>
          <a:xfrm>
            <a:off x="4713120" y="3886200"/>
            <a:ext cx="39625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2"/>
          <p:cNvSpPr/>
          <p:nvPr/>
        </p:nvSpPr>
        <p:spPr>
          <a:xfrm>
            <a:off x="0" y="22860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Anxiety</a:t>
            </a:r>
            <a:br>
              <a:rPr sz="40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Definition: Vague uneasy feeling of discomfort or dread accompanied by an autonomic response (the source often nonspecific or unknown to the individual); a feeling of apprehension caused by anticipation of danger. It is an altering signal that warns of impending danger and enables the individual to take measures to deal with that thr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0" y="2209680"/>
          <a:ext cx="9144000" cy="46562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496800">
                <a:tc gridSpan="4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C – NIC LINKAGES FOR ANXIE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jor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ggested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0840"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xiety Le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tion: Severity of manifested apprehension, tension, or uneasiness arising from an unidentifiable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xiety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ming Tech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e List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ger Control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oma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genic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ping Enha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isis 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sion-Making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entia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entia Management: Ba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tion Admini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ic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xation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ocation Stress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ep Enha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ity Enha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tal Signs 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304920" y="4800600"/>
            <a:ext cx="5867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NDA-I, NIC and NO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22"/>
          <p:cNvGrpSpPr/>
          <p:nvPr/>
        </p:nvGrpSpPr>
        <p:grpSpPr>
          <a:xfrm>
            <a:off x="252360" y="1071720"/>
            <a:ext cx="8880480" cy="5562360"/>
            <a:chOff x="252360" y="1071720"/>
            <a:chExt cx="8880480" cy="5562360"/>
          </a:xfrm>
        </p:grpSpPr>
        <p:sp>
          <p:nvSpPr>
            <p:cNvPr id="423" name="Oval 2"/>
            <p:cNvSpPr/>
            <p:nvPr/>
          </p:nvSpPr>
          <p:spPr>
            <a:xfrm>
              <a:off x="4138560" y="3662280"/>
              <a:ext cx="1218960" cy="121896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at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3"/>
            <p:cNvSpPr/>
            <p:nvPr/>
          </p:nvSpPr>
          <p:spPr>
            <a:xfrm>
              <a:off x="252360" y="4881600"/>
              <a:ext cx="58672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8"/>
            <p:cNvSpPr/>
            <p:nvPr/>
          </p:nvSpPr>
          <p:spPr>
            <a:xfrm>
              <a:off x="3300120" y="1147680"/>
              <a:ext cx="1904760" cy="15570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nxiety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8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9"/>
            <p:cNvSpPr/>
            <p:nvPr/>
          </p:nvSpPr>
          <p:spPr>
            <a:xfrm>
              <a:off x="4252680" y="2717280"/>
              <a:ext cx="305640" cy="1035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1"/>
            <p:cNvSpPr/>
            <p:nvPr/>
          </p:nvSpPr>
          <p:spPr>
            <a:xfrm>
              <a:off x="5662440" y="1071720"/>
              <a:ext cx="1752480" cy="15570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alming Techn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8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2"/>
            <p:cNvSpPr/>
            <p:nvPr/>
          </p:nvSpPr>
          <p:spPr>
            <a:xfrm flipH="1">
              <a:off x="5311440" y="2717280"/>
              <a:ext cx="1089720" cy="1244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4"/>
            <p:cNvSpPr/>
            <p:nvPr/>
          </p:nvSpPr>
          <p:spPr>
            <a:xfrm>
              <a:off x="480960" y="1147680"/>
              <a:ext cx="2057400" cy="13816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nxie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ANDA-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014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5"/>
            <p:cNvSpPr/>
            <p:nvPr/>
          </p:nvSpPr>
          <p:spPr>
            <a:xfrm>
              <a:off x="2210400" y="2622240"/>
              <a:ext cx="2042280" cy="1424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7"/>
            <p:cNvSpPr/>
            <p:nvPr/>
          </p:nvSpPr>
          <p:spPr>
            <a:xfrm>
              <a:off x="404640" y="3404160"/>
              <a:ext cx="2392200" cy="17056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istr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9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 flipV="1">
              <a:off x="2797200" y="4516920"/>
              <a:ext cx="1456920" cy="1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0"/>
            <p:cNvSpPr/>
            <p:nvPr/>
          </p:nvSpPr>
          <p:spPr>
            <a:xfrm>
              <a:off x="5913360" y="4046760"/>
              <a:ext cx="3219480" cy="2547720"/>
            </a:xfrm>
            <a:prstGeom prst="rect">
              <a:avLst/>
            </a:prstGeom>
            <a:solidFill>
              <a:srgbClr val="e2c5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nxiety Le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O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2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evere to None Sc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1"/>
            <p:cNvSpPr/>
            <p:nvPr/>
          </p:nvSpPr>
          <p:spPr>
            <a:xfrm flipH="1" flipV="1">
              <a:off x="5213880" y="4644000"/>
              <a:ext cx="698760" cy="613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2"/>
          <p:cNvSpPr/>
          <p:nvPr/>
        </p:nvSpPr>
        <p:spPr>
          <a:xfrm>
            <a:off x="0" y="2286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Impaired Skin Integrity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Definition: Altered epidermis and or dermi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0" y="1676520"/>
          <a:ext cx="9067680" cy="4655880"/>
        </p:xfrm>
        <a:graphic>
          <a:graphicData uri="http://schemas.openxmlformats.org/drawingml/2006/table">
            <a:tbl>
              <a:tblPr/>
              <a:tblGrid>
                <a:gridCol w="2365200"/>
                <a:gridCol w="2365560"/>
                <a:gridCol w="2365200"/>
                <a:gridCol w="1971720"/>
              </a:tblGrid>
              <a:tr h="853560">
                <a:tc gridSpan="4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C – NIC LINKAGES FOR IMPAIRED SKIN INTEGR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jor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ggested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652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ssue Integrity: Skin and Mucous Membra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tion: Structural Intactness and normal physiological function of skin and mucous membra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sure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n Surveill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putation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rculatory Care: Arterial Insu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rculatory Care: Venous Insu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t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ction Pro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tion Administration: S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omy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it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sure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sure Ulcer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n Care: Topical Treat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3"/>
          <p:cNvSpPr/>
          <p:nvPr/>
        </p:nvSpPr>
        <p:spPr>
          <a:xfrm>
            <a:off x="304920" y="4800600"/>
            <a:ext cx="5867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685800" y="5673600"/>
            <a:ext cx="487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dapted from Harris, M., Graves, J. R., Solbrig, H.R., Elkin, P.L., Chute, C.G. (2000). Embedded structures and nursing knowledge representation. Journal of the American Medical Informatics Association.  7(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NDA-I, NIC and NO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22"/>
          <p:cNvGrpSpPr/>
          <p:nvPr/>
        </p:nvGrpSpPr>
        <p:grpSpPr>
          <a:xfrm>
            <a:off x="190440" y="1096920"/>
            <a:ext cx="8925120" cy="5562720"/>
            <a:chOff x="190440" y="1096920"/>
            <a:chExt cx="8925120" cy="5562720"/>
          </a:xfrm>
        </p:grpSpPr>
        <p:sp>
          <p:nvSpPr>
            <p:cNvPr id="441" name="Oval 2"/>
            <p:cNvSpPr/>
            <p:nvPr/>
          </p:nvSpPr>
          <p:spPr>
            <a:xfrm>
              <a:off x="4076280" y="3687840"/>
              <a:ext cx="1218960" cy="121896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at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3"/>
            <p:cNvSpPr/>
            <p:nvPr/>
          </p:nvSpPr>
          <p:spPr>
            <a:xfrm>
              <a:off x="190440" y="4907160"/>
              <a:ext cx="58672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8"/>
            <p:cNvSpPr/>
            <p:nvPr/>
          </p:nvSpPr>
          <p:spPr>
            <a:xfrm>
              <a:off x="3238200" y="1172880"/>
              <a:ext cx="1904760" cy="1747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essure Management 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9"/>
            <p:cNvSpPr/>
            <p:nvPr/>
          </p:nvSpPr>
          <p:spPr>
            <a:xfrm>
              <a:off x="4192200" y="2927160"/>
              <a:ext cx="265320" cy="835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1"/>
            <p:cNvSpPr/>
            <p:nvPr/>
          </p:nvSpPr>
          <p:spPr>
            <a:xfrm>
              <a:off x="5600520" y="1096920"/>
              <a:ext cx="1752480" cy="1747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essure Ulcer Care 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5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2"/>
            <p:cNvSpPr/>
            <p:nvPr/>
          </p:nvSpPr>
          <p:spPr>
            <a:xfrm flipH="1">
              <a:off x="5249880" y="2878920"/>
              <a:ext cx="1226880" cy="1108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14"/>
            <p:cNvSpPr/>
            <p:nvPr/>
          </p:nvSpPr>
          <p:spPr>
            <a:xfrm>
              <a:off x="418680" y="1172880"/>
              <a:ext cx="2057040" cy="174744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mpaired Skin Integrity (NANDA-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004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15"/>
            <p:cNvSpPr/>
            <p:nvPr/>
          </p:nvSpPr>
          <p:spPr>
            <a:xfrm>
              <a:off x="2506320" y="2851200"/>
              <a:ext cx="1599840" cy="1265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7"/>
            <p:cNvSpPr/>
            <p:nvPr/>
          </p:nvSpPr>
          <p:spPr>
            <a:xfrm>
              <a:off x="342720" y="3429720"/>
              <a:ext cx="2392200" cy="17056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essure Ulc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evention 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8"/>
            <p:cNvSpPr/>
            <p:nvPr/>
          </p:nvSpPr>
          <p:spPr>
            <a:xfrm flipV="1">
              <a:off x="2734920" y="4542480"/>
              <a:ext cx="1456920" cy="1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0"/>
            <p:cNvSpPr/>
            <p:nvPr/>
          </p:nvSpPr>
          <p:spPr>
            <a:xfrm>
              <a:off x="6143760" y="3512160"/>
              <a:ext cx="2971800" cy="2976120"/>
            </a:xfrm>
            <a:prstGeom prst="rect">
              <a:avLst/>
            </a:prstGeom>
            <a:solidFill>
              <a:srgbClr val="e2c5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issue Integrity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kin and Muco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OC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1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mpromised Sc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1"/>
            <p:cNvSpPr/>
            <p:nvPr/>
          </p:nvSpPr>
          <p:spPr>
            <a:xfrm flipH="1" flipV="1">
              <a:off x="5127480" y="4743000"/>
              <a:ext cx="1044720" cy="513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Box 2"/>
          <p:cNvSpPr/>
          <p:nvPr/>
        </p:nvSpPr>
        <p:spPr>
          <a:xfrm>
            <a:off x="0" y="228600"/>
            <a:ext cx="91440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Deficient Fluid Volume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Definition: Decreased intravascular, interstitial, and/or intracellular fl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0" y="2201760"/>
          <a:ext cx="8991720" cy="4656240"/>
        </p:xfrm>
        <a:graphic>
          <a:graphicData uri="http://schemas.openxmlformats.org/drawingml/2006/table">
            <a:tbl>
              <a:tblPr/>
              <a:tblGrid>
                <a:gridCol w="2359080"/>
                <a:gridCol w="2209680"/>
                <a:gridCol w="2211480"/>
                <a:gridCol w="2211480"/>
              </a:tblGrid>
              <a:tr h="853560">
                <a:tc gridSpan="4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C – NIC LINKAGES FOR DEFICIT FLUID 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jor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ggested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72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id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tion: Water balance in the intracellular and extracellular compartments of the bo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id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id 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eral Tube Fee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id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id 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id Resusc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ck Preventi0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tal Signs 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3"/>
          <p:cNvSpPr/>
          <p:nvPr/>
        </p:nvSpPr>
        <p:spPr>
          <a:xfrm>
            <a:off x="304920" y="4800600"/>
            <a:ext cx="5867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NDA-I, NIC and NO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Group 22"/>
          <p:cNvGrpSpPr/>
          <p:nvPr/>
        </p:nvGrpSpPr>
        <p:grpSpPr>
          <a:xfrm>
            <a:off x="198360" y="1071720"/>
            <a:ext cx="8869320" cy="5562360"/>
            <a:chOff x="198360" y="1071720"/>
            <a:chExt cx="8869320" cy="5562360"/>
          </a:xfrm>
        </p:grpSpPr>
        <p:sp>
          <p:nvSpPr>
            <p:cNvPr id="458" name="Oval 2"/>
            <p:cNvSpPr/>
            <p:nvPr/>
          </p:nvSpPr>
          <p:spPr>
            <a:xfrm>
              <a:off x="4084200" y="3662280"/>
              <a:ext cx="1218960" cy="121896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at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3"/>
            <p:cNvSpPr/>
            <p:nvPr/>
          </p:nvSpPr>
          <p:spPr>
            <a:xfrm>
              <a:off x="198360" y="4881600"/>
              <a:ext cx="58672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8"/>
            <p:cNvSpPr/>
            <p:nvPr/>
          </p:nvSpPr>
          <p:spPr>
            <a:xfrm>
              <a:off x="3246120" y="1147680"/>
              <a:ext cx="1904760" cy="1747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lu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anagement 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9"/>
            <p:cNvSpPr/>
            <p:nvPr/>
          </p:nvSpPr>
          <p:spPr>
            <a:xfrm>
              <a:off x="4200120" y="2901960"/>
              <a:ext cx="265320" cy="835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11"/>
            <p:cNvSpPr/>
            <p:nvPr/>
          </p:nvSpPr>
          <p:spPr>
            <a:xfrm>
              <a:off x="5608440" y="1071720"/>
              <a:ext cx="1752480" cy="1747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luid Monitoring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2"/>
            <p:cNvSpPr/>
            <p:nvPr/>
          </p:nvSpPr>
          <p:spPr>
            <a:xfrm flipH="1">
              <a:off x="5257800" y="2853720"/>
              <a:ext cx="1226880" cy="1108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4"/>
            <p:cNvSpPr/>
            <p:nvPr/>
          </p:nvSpPr>
          <p:spPr>
            <a:xfrm>
              <a:off x="426960" y="1147680"/>
              <a:ext cx="2057040" cy="174744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eficient Fluid Volume (NANDA-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00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5"/>
            <p:cNvSpPr/>
            <p:nvPr/>
          </p:nvSpPr>
          <p:spPr>
            <a:xfrm>
              <a:off x="2484000" y="2853720"/>
              <a:ext cx="1599840" cy="1265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350640" y="3404160"/>
              <a:ext cx="2392200" cy="17056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luid/Electroly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IC)20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8"/>
            <p:cNvSpPr/>
            <p:nvPr/>
          </p:nvSpPr>
          <p:spPr>
            <a:xfrm flipV="1">
              <a:off x="2743200" y="4516920"/>
              <a:ext cx="1456920" cy="1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0"/>
            <p:cNvSpPr/>
            <p:nvPr/>
          </p:nvSpPr>
          <p:spPr>
            <a:xfrm>
              <a:off x="6172200" y="3676680"/>
              <a:ext cx="2895480" cy="2547720"/>
            </a:xfrm>
            <a:prstGeom prst="rect">
              <a:avLst/>
            </a:prstGeom>
            <a:solidFill>
              <a:srgbClr val="e2c5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luid Bal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O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mpromised Sc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21"/>
            <p:cNvSpPr/>
            <p:nvPr/>
          </p:nvSpPr>
          <p:spPr>
            <a:xfrm flipH="1" flipV="1">
              <a:off x="5160240" y="4644000"/>
              <a:ext cx="1011600" cy="613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nkages: Risk for Nursing Diagnosi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85440" y="1676520"/>
            <a:ext cx="3809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isk for Infection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3" descr="C:\Users\moorhead\AppData\Local\Microsoft\Windows\Temporary Internet Files\Content.IE5\12Z0CADB\risk-icon[1].jpg"/>
          <p:cNvPicPr/>
          <p:nvPr/>
        </p:nvPicPr>
        <p:blipFill>
          <a:blip r:embed="rId1"/>
          <a:stretch/>
        </p:blipFill>
        <p:spPr>
          <a:xfrm>
            <a:off x="3962520" y="1828800"/>
            <a:ext cx="42480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fection, Risk for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At increased risk for being invaded by pathogenic organis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685800" y="275544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Cs to assess and measure actual occurrence of the diagno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 Seve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 Severity: Newb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3" descr="C:\Users\moorhead\AppData\Local\Microsoft\Windows\Temporary Internet Files\Content.IE5\12Z0CADB\risk-icon[1].jpg"/>
          <p:cNvPicPr/>
          <p:nvPr/>
        </p:nvPicPr>
        <p:blipFill>
          <a:blip r:embed="rId1"/>
          <a:stretch/>
        </p:blipFill>
        <p:spPr>
          <a:xfrm>
            <a:off x="6324480" y="3962520"/>
            <a:ext cx="2362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380880" y="380880"/>
          <a:ext cx="8458200" cy="655164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672560">
                <a:tc gridSpan="3"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COMES ASSOCIATED WITH RISK FACTORS FOR INFECTION (19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f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90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rn Hea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unity Risk Control: Communicable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strointestinal Fun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mune St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munization Behav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nal Status: Antepar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nal Status: Intrapar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tion Respo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ritional Status: Nutrient Int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nal Status: Postpar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ritional Status: Nutrient Int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 Hygie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al Injury Seve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sk Control: Infectious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sk Control: Sexually Transmitted Diseases (ST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ssue Integrity: Skin &amp; Muc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bra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und Healing: Primary Inten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und Healing: Secondary Inten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7" name="Picture 2" descr="C:\Users\moorhead\AppData\Local\Microsoft\Windows\Temporary Internet Files\Content.IE5\12Z0CADB\risk-icon[1].jpg"/>
          <p:cNvPicPr/>
          <p:nvPr/>
        </p:nvPicPr>
        <p:blipFill>
          <a:blip r:embed="rId1"/>
          <a:stretch/>
        </p:blipFill>
        <p:spPr>
          <a:xfrm>
            <a:off x="3733920" y="5148360"/>
            <a:ext cx="19047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45"/>
          <p:cNvGrpSpPr/>
          <p:nvPr/>
        </p:nvGrpSpPr>
        <p:grpSpPr>
          <a:xfrm>
            <a:off x="152280" y="152280"/>
            <a:ext cx="8839440" cy="6205680"/>
            <a:chOff x="152280" y="152280"/>
            <a:chExt cx="8839440" cy="6205680"/>
          </a:xfrm>
        </p:grpSpPr>
        <p:sp>
          <p:nvSpPr>
            <p:cNvPr id="316" name="Text Box 55"/>
            <p:cNvSpPr/>
            <p:nvPr/>
          </p:nvSpPr>
          <p:spPr>
            <a:xfrm>
              <a:off x="1828440" y="152280"/>
              <a:ext cx="6629760" cy="368280"/>
            </a:xfrm>
            <a:prstGeom prst="rect">
              <a:avLst/>
            </a:prstGeom>
            <a:solidFill>
              <a:srgbClr val="dbeef4">
                <a:alpha val="9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Nursing Knowledge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59"/>
            <p:cNvSpPr/>
            <p:nvPr/>
          </p:nvSpPr>
          <p:spPr>
            <a:xfrm>
              <a:off x="1981080" y="1501920"/>
              <a:ext cx="1905120" cy="905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Diagnosi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lassification</a:t>
              </a:r>
              <a:r>
                <a:rPr b="1" lang="ja-JP" sz="1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　　　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60"/>
            <p:cNvSpPr/>
            <p:nvPr/>
          </p:nvSpPr>
          <p:spPr>
            <a:xfrm>
              <a:off x="6400800" y="1500120"/>
              <a:ext cx="1981080" cy="707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Inter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lassific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61"/>
            <p:cNvSpPr/>
            <p:nvPr/>
          </p:nvSpPr>
          <p:spPr>
            <a:xfrm>
              <a:off x="4267080" y="1500120"/>
              <a:ext cx="1905120" cy="707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Outco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las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65"/>
            <p:cNvSpPr/>
            <p:nvPr/>
          </p:nvSpPr>
          <p:spPr>
            <a:xfrm>
              <a:off x="2209680" y="2743200"/>
              <a:ext cx="1066680" cy="368280"/>
            </a:xfrm>
            <a:prstGeom prst="rect">
              <a:avLst/>
            </a:prstGeom>
            <a:solidFill>
              <a:srgbClr val="bff0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hoic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66"/>
            <p:cNvSpPr/>
            <p:nvPr/>
          </p:nvSpPr>
          <p:spPr>
            <a:xfrm>
              <a:off x="4648320" y="2743200"/>
              <a:ext cx="1066680" cy="368280"/>
            </a:xfrm>
            <a:prstGeom prst="rect">
              <a:avLst/>
            </a:prstGeom>
            <a:solidFill>
              <a:srgbClr val="bff0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hoic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67"/>
            <p:cNvSpPr/>
            <p:nvPr/>
          </p:nvSpPr>
          <p:spPr>
            <a:xfrm>
              <a:off x="6858000" y="2743200"/>
              <a:ext cx="1066680" cy="368280"/>
            </a:xfrm>
            <a:prstGeom prst="rect">
              <a:avLst/>
            </a:prstGeom>
            <a:solidFill>
              <a:srgbClr val="bff0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hoice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77"/>
            <p:cNvSpPr/>
            <p:nvPr/>
          </p:nvSpPr>
          <p:spPr>
            <a:xfrm>
              <a:off x="152280" y="2743200"/>
              <a:ext cx="1143000" cy="580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linical Reaso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78"/>
            <p:cNvSpPr/>
            <p:nvPr/>
          </p:nvSpPr>
          <p:spPr>
            <a:xfrm>
              <a:off x="1295280" y="304776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28"/>
            <p:cNvSpPr/>
            <p:nvPr/>
          </p:nvSpPr>
          <p:spPr>
            <a:xfrm>
              <a:off x="4495680" y="10666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29"/>
            <p:cNvSpPr/>
            <p:nvPr/>
          </p:nvSpPr>
          <p:spPr>
            <a:xfrm>
              <a:off x="1218960" y="3733920"/>
              <a:ext cx="2514600" cy="91692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ystematic assess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agnostic accura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tient prior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30"/>
            <p:cNvSpPr/>
            <p:nvPr/>
          </p:nvSpPr>
          <p:spPr>
            <a:xfrm>
              <a:off x="3809880" y="3733920"/>
              <a:ext cx="2590920" cy="91692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asurement accura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ngitudinal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tient involv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31"/>
            <p:cNvSpPr/>
            <p:nvPr/>
          </p:nvSpPr>
          <p:spPr>
            <a:xfrm>
              <a:off x="6553440" y="3733920"/>
              <a:ext cx="2438280" cy="91692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idence base &amp; C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tient preferen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etenc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Straight Arrow Connector 33"/>
            <p:cNvCxnSpPr/>
            <p:nvPr/>
          </p:nvCxnSpPr>
          <p:spPr>
            <a:xfrm flipH="1">
              <a:off x="7389720" y="3165480"/>
              <a:ext cx="216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30" name="Straight Arrow Connector 36"/>
            <p:cNvCxnSpPr/>
            <p:nvPr/>
          </p:nvCxnSpPr>
          <p:spPr>
            <a:xfrm flipH="1">
              <a:off x="5181120" y="3165480"/>
              <a:ext cx="216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31" name="Straight Arrow Connector 37"/>
            <p:cNvCxnSpPr/>
            <p:nvPr/>
          </p:nvCxnSpPr>
          <p:spPr>
            <a:xfrm flipH="1">
              <a:off x="2742840" y="3165480"/>
              <a:ext cx="216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32" name="Straight Arrow Connector 42"/>
            <p:cNvCxnSpPr/>
            <p:nvPr/>
          </p:nvCxnSpPr>
          <p:spPr>
            <a:xfrm flipH="1">
              <a:off x="7389720" y="2286000"/>
              <a:ext cx="216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33" name="Straight Arrow Connector 43"/>
            <p:cNvCxnSpPr/>
            <p:nvPr/>
          </p:nvCxnSpPr>
          <p:spPr>
            <a:xfrm flipH="1">
              <a:off x="5181120" y="2286000"/>
              <a:ext cx="216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34" name="Straight Arrow Connector 44"/>
            <p:cNvCxnSpPr/>
            <p:nvPr/>
          </p:nvCxnSpPr>
          <p:spPr>
            <a:xfrm flipH="1">
              <a:off x="2742840" y="2286000"/>
              <a:ext cx="216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335" name="Right Bracket 47"/>
            <p:cNvSpPr/>
            <p:nvPr/>
          </p:nvSpPr>
          <p:spPr>
            <a:xfrm>
              <a:off x="5562720" y="1142640"/>
              <a:ext cx="3048120" cy="1295280"/>
            </a:xfrm>
            <a:custGeom>
              <a:avLst/>
              <a:gdLst>
                <a:gd name="textAreaLeft" fmla="*/ 0 w 3048120"/>
                <a:gd name="textAreaRight" fmla="*/ 2138040 w 3048120"/>
                <a:gd name="textAreaTop" fmla="*/ 133200 h 1295280"/>
                <a:gd name="textAreaBottom" fmla="*/ 116208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224"/>
                    <a:pt x="21600" y="4447"/>
                  </a:cubicBezTo>
                  <a:lnTo>
                    <a:pt x="21600" y="17153"/>
                  </a:lnTo>
                  <a:cubicBezTo>
                    <a:pt x="21600" y="19377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ight Bracket 48"/>
            <p:cNvSpPr/>
            <p:nvPr/>
          </p:nvSpPr>
          <p:spPr>
            <a:xfrm rot="10800000">
              <a:off x="1828080" y="1142280"/>
              <a:ext cx="2895480" cy="1295280"/>
            </a:xfrm>
            <a:custGeom>
              <a:avLst/>
              <a:gdLst>
                <a:gd name="textAreaLeft" fmla="*/ 0 w 2895480"/>
                <a:gd name="textAreaRight" fmla="*/ 2030760 w 2895480"/>
                <a:gd name="textAreaTop" fmla="*/ 120960 h 1295280"/>
                <a:gd name="textAreaBottom" fmla="*/ 117432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020"/>
                    <a:pt x="21600" y="4040"/>
                  </a:cubicBezTo>
                  <a:lnTo>
                    <a:pt x="21600" y="17560"/>
                  </a:lnTo>
                  <a:cubicBezTo>
                    <a:pt x="21600" y="1958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49"/>
            <p:cNvSpPr/>
            <p:nvPr/>
          </p:nvSpPr>
          <p:spPr>
            <a:xfrm>
              <a:off x="1904760" y="5715360"/>
              <a:ext cx="6782040" cy="642600"/>
            </a:xfrm>
            <a:prstGeom prst="rect">
              <a:avLst/>
            </a:prstGeom>
            <a:noFill/>
            <a:ln w="93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dels of Care for Population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dictive  Care 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d on Practice Evid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Straight Arrow Connector 51"/>
            <p:cNvCxnSpPr/>
            <p:nvPr/>
          </p:nvCxnSpPr>
          <p:spPr>
            <a:xfrm flipH="1" flipV="1">
              <a:off x="2666520" y="4723920"/>
              <a:ext cx="45792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39" name="Straight Arrow Connector 56"/>
            <p:cNvCxnSpPr/>
            <p:nvPr/>
          </p:nvCxnSpPr>
          <p:spPr>
            <a:xfrm flipH="1">
              <a:off x="5181120" y="4800600"/>
              <a:ext cx="216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40" name="Straight Arrow Connector 59"/>
            <p:cNvCxnSpPr/>
            <p:nvPr/>
          </p:nvCxnSpPr>
          <p:spPr>
            <a:xfrm flipH="1">
              <a:off x="7315200" y="4724640"/>
              <a:ext cx="45792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41" name="Straight Arrow Connector 63"/>
            <p:cNvCxnSpPr/>
            <p:nvPr/>
          </p:nvCxnSpPr>
          <p:spPr>
            <a:xfrm flipH="1">
              <a:off x="2971080" y="685440"/>
              <a:ext cx="6102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42" name="Straight Arrow Connector 67"/>
            <p:cNvCxnSpPr/>
            <p:nvPr/>
          </p:nvCxnSpPr>
          <p:spPr>
            <a:xfrm flipH="1">
              <a:off x="5181120" y="609480"/>
              <a:ext cx="216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43" name="Straight Arrow Connector 78"/>
            <p:cNvCxnSpPr/>
            <p:nvPr/>
          </p:nvCxnSpPr>
          <p:spPr>
            <a:xfrm>
              <a:off x="6400800" y="685440"/>
              <a:ext cx="4579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344" name="TextBox 82"/>
            <p:cNvSpPr/>
            <p:nvPr/>
          </p:nvSpPr>
          <p:spPr>
            <a:xfrm>
              <a:off x="3809880" y="541008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ture Knowl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Straight Connector 34"/>
          <p:cNvSpPr/>
          <p:nvPr/>
        </p:nvSpPr>
        <p:spPr>
          <a:xfrm flipH="1">
            <a:off x="302760" y="3430440"/>
            <a:ext cx="32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Straight Arrow Connector 41"/>
          <p:cNvCxnSpPr/>
          <p:nvPr/>
        </p:nvCxnSpPr>
        <p:spPr>
          <a:xfrm>
            <a:off x="290520" y="4114800"/>
            <a:ext cx="8388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228600" y="228600"/>
          <a:ext cx="8734320" cy="6027840"/>
        </p:xfrm>
        <a:graphic>
          <a:graphicData uri="http://schemas.openxmlformats.org/drawingml/2006/table">
            <a:tbl>
              <a:tblPr/>
              <a:tblGrid>
                <a:gridCol w="3060720"/>
                <a:gridCol w="2911320"/>
                <a:gridCol w="2762280"/>
              </a:tblGrid>
              <a:tr h="523800">
                <a:tc gridSpan="3"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S ASSOCIATED WITH PREVENTION OF INF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0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putation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sarean Section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rcumcision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unicable Disease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gh Enha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munization/Vaccination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ision Site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ction 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ction Control: Intraoper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ction Pro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partal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partal Care: High-Risk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tion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rition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ritional 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 Health Promo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 Health Rest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neal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partal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gnancy Termination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sure Ulcer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sure Ulcer Pre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uritus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n Care: Donor 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n Care: Graft 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veill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n Surveill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ching: Safe S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be Care: Urin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und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und Care: Bur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und Care: Closed Drai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und Irr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9" name="Picture 2" descr="C:\Users\moorhead\AppData\Local\Microsoft\Windows\Temporary Internet Files\Content.IE5\12Z0CADB\risk-icon[1].jpg"/>
          <p:cNvPicPr/>
          <p:nvPr/>
        </p:nvPicPr>
        <p:blipFill>
          <a:blip r:embed="rId1"/>
          <a:stretch/>
        </p:blipFill>
        <p:spPr>
          <a:xfrm>
            <a:off x="3733920" y="4648320"/>
            <a:ext cx="19047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304920" y="4800600"/>
            <a:ext cx="5867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NDA-I, NIC and NO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Group 22"/>
          <p:cNvGrpSpPr/>
          <p:nvPr/>
        </p:nvGrpSpPr>
        <p:grpSpPr>
          <a:xfrm>
            <a:off x="179280" y="1095480"/>
            <a:ext cx="8925120" cy="5562360"/>
            <a:chOff x="179280" y="1095480"/>
            <a:chExt cx="8925120" cy="5562360"/>
          </a:xfrm>
        </p:grpSpPr>
        <p:sp>
          <p:nvSpPr>
            <p:cNvPr id="483" name="Oval 2"/>
            <p:cNvSpPr/>
            <p:nvPr/>
          </p:nvSpPr>
          <p:spPr>
            <a:xfrm>
              <a:off x="4065120" y="3686040"/>
              <a:ext cx="1218960" cy="121896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at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3"/>
            <p:cNvSpPr/>
            <p:nvPr/>
          </p:nvSpPr>
          <p:spPr>
            <a:xfrm>
              <a:off x="179280" y="4905360"/>
              <a:ext cx="58672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8"/>
            <p:cNvSpPr/>
            <p:nvPr/>
          </p:nvSpPr>
          <p:spPr>
            <a:xfrm>
              <a:off x="3227040" y="1171440"/>
              <a:ext cx="1904760" cy="1747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fection Protection 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5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9"/>
            <p:cNvSpPr/>
            <p:nvPr/>
          </p:nvSpPr>
          <p:spPr>
            <a:xfrm>
              <a:off x="4181040" y="2925720"/>
              <a:ext cx="265320" cy="835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1"/>
            <p:cNvSpPr/>
            <p:nvPr/>
          </p:nvSpPr>
          <p:spPr>
            <a:xfrm>
              <a:off x="5589360" y="1095480"/>
              <a:ext cx="1752480" cy="1747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cision Site Care 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4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12"/>
            <p:cNvSpPr/>
            <p:nvPr/>
          </p:nvSpPr>
          <p:spPr>
            <a:xfrm flipH="1">
              <a:off x="5238720" y="2877480"/>
              <a:ext cx="1226880" cy="1108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14"/>
            <p:cNvSpPr/>
            <p:nvPr/>
          </p:nvSpPr>
          <p:spPr>
            <a:xfrm>
              <a:off x="407520" y="1171440"/>
              <a:ext cx="2057040" cy="19378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isk for Infe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ANDA-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0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5"/>
            <p:cNvSpPr/>
            <p:nvPr/>
          </p:nvSpPr>
          <p:spPr>
            <a:xfrm>
              <a:off x="2495160" y="2849400"/>
              <a:ext cx="1599840" cy="1265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7"/>
            <p:cNvSpPr/>
            <p:nvPr/>
          </p:nvSpPr>
          <p:spPr>
            <a:xfrm>
              <a:off x="331560" y="3427920"/>
              <a:ext cx="2392200" cy="17056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rveill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6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18"/>
            <p:cNvSpPr/>
            <p:nvPr/>
          </p:nvSpPr>
          <p:spPr>
            <a:xfrm flipV="1">
              <a:off x="2723760" y="4540680"/>
              <a:ext cx="1456920" cy="1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20"/>
            <p:cNvSpPr/>
            <p:nvPr/>
          </p:nvSpPr>
          <p:spPr>
            <a:xfrm>
              <a:off x="6132600" y="3510360"/>
              <a:ext cx="2971800" cy="2976120"/>
            </a:xfrm>
            <a:prstGeom prst="rect">
              <a:avLst/>
            </a:prstGeom>
            <a:solidFill>
              <a:srgbClr val="e2c5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fection Sever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OC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70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everity Sc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1"/>
            <p:cNvSpPr/>
            <p:nvPr/>
          </p:nvSpPr>
          <p:spPr>
            <a:xfrm flipH="1" flipV="1">
              <a:off x="5116320" y="4741200"/>
              <a:ext cx="1044720" cy="513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nkages for Readiness Nursing Diagnosi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447920" y="1676520"/>
            <a:ext cx="304776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diness for Enhanced Knowled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2" descr="C:\Users\moorhead\AppData\Local\Microsoft\Windows\Temporary Internet Files\Content.IE5\YKX12JS4\knowledge_quote[1].jpg"/>
          <p:cNvPicPr/>
          <p:nvPr/>
        </p:nvPicPr>
        <p:blipFill>
          <a:blip r:embed="rId1"/>
          <a:stretch/>
        </p:blipFill>
        <p:spPr>
          <a:xfrm>
            <a:off x="4800600" y="2895480"/>
            <a:ext cx="41148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2"/>
          <p:cNvSpPr/>
          <p:nvPr/>
        </p:nvSpPr>
        <p:spPr>
          <a:xfrm>
            <a:off x="0" y="22860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Knowledge: Readiness for Enhanced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Definition: The presence or acquisition of cognitive Information related to a specific topic is sufficient for meeting health-related goals and can be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0" y="2201760"/>
          <a:ext cx="8991720" cy="5011920"/>
        </p:xfrm>
        <a:graphic>
          <a:graphicData uri="http://schemas.openxmlformats.org/drawingml/2006/table">
            <a:tbl>
              <a:tblPr/>
              <a:tblGrid>
                <a:gridCol w="2359080"/>
                <a:gridCol w="2209680"/>
                <a:gridCol w="2211480"/>
                <a:gridCol w="2211480"/>
              </a:tblGrid>
              <a:tr h="854280">
                <a:tc gridSpan="4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C – NIC LINKAGES FOR READINESS FOR ENHANCED 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jor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ggested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868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ledge: Health Behav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tion: Extent of understanding conveyed about the promotion and protection of h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lth 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ing Facil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ing Readiness Enha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lth System Gui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munizatio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ccination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f-Modification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f-Responsibility Facil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king Cessation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ching: Safe S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tance Use Pre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hicle Safety Promo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04920" y="4800600"/>
            <a:ext cx="5867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NDA-I, NIC and NO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Group 22"/>
          <p:cNvGrpSpPr/>
          <p:nvPr/>
        </p:nvGrpSpPr>
        <p:grpSpPr>
          <a:xfrm>
            <a:off x="249120" y="1149480"/>
            <a:ext cx="8926560" cy="5562360"/>
            <a:chOff x="249120" y="1149480"/>
            <a:chExt cx="8926560" cy="5562360"/>
          </a:xfrm>
        </p:grpSpPr>
        <p:sp>
          <p:nvSpPr>
            <p:cNvPr id="503" name="Oval 2"/>
            <p:cNvSpPr/>
            <p:nvPr/>
          </p:nvSpPr>
          <p:spPr>
            <a:xfrm>
              <a:off x="4135680" y="3740040"/>
              <a:ext cx="1219320" cy="121896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at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3"/>
            <p:cNvSpPr/>
            <p:nvPr/>
          </p:nvSpPr>
          <p:spPr>
            <a:xfrm>
              <a:off x="249120" y="4959360"/>
              <a:ext cx="5868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8"/>
            <p:cNvSpPr/>
            <p:nvPr/>
          </p:nvSpPr>
          <p:spPr>
            <a:xfrm>
              <a:off x="3297240" y="1225440"/>
              <a:ext cx="1905120" cy="19378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ealth Edu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5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9"/>
            <p:cNvSpPr/>
            <p:nvPr/>
          </p:nvSpPr>
          <p:spPr>
            <a:xfrm>
              <a:off x="4251240" y="2979720"/>
              <a:ext cx="265320" cy="835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1"/>
            <p:cNvSpPr/>
            <p:nvPr/>
          </p:nvSpPr>
          <p:spPr>
            <a:xfrm>
              <a:off x="5659920" y="1149480"/>
              <a:ext cx="2793600" cy="13816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elf-Modification Assistance 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4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2"/>
            <p:cNvSpPr/>
            <p:nvPr/>
          </p:nvSpPr>
          <p:spPr>
            <a:xfrm flipH="1">
              <a:off x="5252040" y="2534400"/>
              <a:ext cx="1524960" cy="1477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4"/>
            <p:cNvSpPr/>
            <p:nvPr/>
          </p:nvSpPr>
          <p:spPr>
            <a:xfrm>
              <a:off x="477720" y="1225440"/>
              <a:ext cx="2057400" cy="230364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eadiness for Enhanced Knowled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ANDA-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016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5"/>
            <p:cNvSpPr/>
            <p:nvPr/>
          </p:nvSpPr>
          <p:spPr>
            <a:xfrm>
              <a:off x="2565360" y="2903400"/>
              <a:ext cx="1600200" cy="1265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20"/>
            <p:cNvSpPr/>
            <p:nvPr/>
          </p:nvSpPr>
          <p:spPr>
            <a:xfrm>
              <a:off x="6203520" y="3564360"/>
              <a:ext cx="2972160" cy="2976120"/>
            </a:xfrm>
            <a:prstGeom prst="rect">
              <a:avLst/>
            </a:prstGeom>
            <a:solidFill>
              <a:srgbClr val="e2c5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nowledge Heal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ehavi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OC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8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nowledge Sc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1"/>
            <p:cNvSpPr/>
            <p:nvPr/>
          </p:nvSpPr>
          <p:spPr>
            <a:xfrm flipH="1" flipV="1">
              <a:off x="5187240" y="4795200"/>
              <a:ext cx="1044720" cy="513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linical Conditions included in the Linkage Book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7920" y="137124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thm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on and Rectal Canc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nic Obstructive Pulmonary Disea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abetes Mellitu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rt Fail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ertens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neumon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ok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tal Joint Replacement: Hip/Kne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4E07-B255-40AF-A6B3-36AFE397E4F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image0-2.jpg"/>
          <p:cNvPicPr/>
          <p:nvPr/>
        </p:nvPicPr>
        <p:blipFill>
          <a:blip r:embed="rId1"/>
          <a:stretch/>
        </p:blipFill>
        <p:spPr>
          <a:xfrm>
            <a:off x="6437160" y="3124080"/>
            <a:ext cx="2156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4674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tal Joint Replace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233280" y="990720"/>
          <a:ext cx="8834400" cy="5729040"/>
        </p:xfrm>
        <a:graphic>
          <a:graphicData uri="http://schemas.openxmlformats.org/drawingml/2006/table">
            <a:tbl>
              <a:tblPr/>
              <a:tblGrid>
                <a:gridCol w="2341800"/>
                <a:gridCol w="2992320"/>
                <a:gridCol w="3500280"/>
              </a:tblGrid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>
                        <a:alpha val="56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jor Interven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ggested Interven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bilit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tion: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ility to move purposefully in own environment independently with or without assistive de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rcise Therapy: Amb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rcise Therapy:  Joint Mo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dy Mechanics Prom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vironmental Managemen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f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rcise Prom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rcise Promotion: Strength Trai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rcise Promotion: Stretc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ll Prevention Behav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tion: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sonal or family caregiver actions to minimize risk factors that might precipitate falls in the personal enviro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vironmental Management: Saf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ll Preven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tion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f-Care Assi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veillance: Saf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04920" y="4800600"/>
            <a:ext cx="5867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nical Condition, NIC and NO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Group 22"/>
          <p:cNvGrpSpPr/>
          <p:nvPr/>
        </p:nvGrpSpPr>
        <p:grpSpPr>
          <a:xfrm>
            <a:off x="252360" y="1071720"/>
            <a:ext cx="8880480" cy="5562360"/>
            <a:chOff x="252360" y="1071720"/>
            <a:chExt cx="8880480" cy="5562360"/>
          </a:xfrm>
        </p:grpSpPr>
        <p:sp>
          <p:nvSpPr>
            <p:cNvPr id="522" name="Oval 2"/>
            <p:cNvSpPr/>
            <p:nvPr/>
          </p:nvSpPr>
          <p:spPr>
            <a:xfrm>
              <a:off x="4138560" y="3662280"/>
              <a:ext cx="1218960" cy="121896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at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3"/>
            <p:cNvSpPr/>
            <p:nvPr/>
          </p:nvSpPr>
          <p:spPr>
            <a:xfrm>
              <a:off x="252360" y="4881600"/>
              <a:ext cx="58672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8"/>
            <p:cNvSpPr/>
            <p:nvPr/>
          </p:nvSpPr>
          <p:spPr>
            <a:xfrm>
              <a:off x="3300120" y="1147680"/>
              <a:ext cx="1904760" cy="192276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xercise Therapy: Ambu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2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9"/>
            <p:cNvSpPr/>
            <p:nvPr/>
          </p:nvSpPr>
          <p:spPr>
            <a:xfrm>
              <a:off x="4254120" y="3086640"/>
              <a:ext cx="297000" cy="639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1"/>
            <p:cNvSpPr/>
            <p:nvPr/>
          </p:nvSpPr>
          <p:spPr>
            <a:xfrm>
              <a:off x="5662440" y="1071720"/>
              <a:ext cx="1752480" cy="228852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xercise Therap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Joint Mo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8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2"/>
            <p:cNvSpPr/>
            <p:nvPr/>
          </p:nvSpPr>
          <p:spPr>
            <a:xfrm flipH="1">
              <a:off x="5262840" y="3406680"/>
              <a:ext cx="649800" cy="640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14"/>
            <p:cNvSpPr/>
            <p:nvPr/>
          </p:nvSpPr>
          <p:spPr>
            <a:xfrm>
              <a:off x="480960" y="1147680"/>
              <a:ext cx="2057400" cy="8254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otal Joint Repla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5"/>
            <p:cNvSpPr/>
            <p:nvPr/>
          </p:nvSpPr>
          <p:spPr>
            <a:xfrm>
              <a:off x="1448280" y="1978560"/>
              <a:ext cx="2804040" cy="20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7"/>
            <p:cNvSpPr/>
            <p:nvPr/>
          </p:nvSpPr>
          <p:spPr>
            <a:xfrm>
              <a:off x="404640" y="3404160"/>
              <a:ext cx="2567520" cy="17056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ain 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18"/>
            <p:cNvSpPr/>
            <p:nvPr/>
          </p:nvSpPr>
          <p:spPr>
            <a:xfrm flipV="1">
              <a:off x="2972520" y="4516920"/>
              <a:ext cx="1281600" cy="1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20"/>
            <p:cNvSpPr/>
            <p:nvPr/>
          </p:nvSpPr>
          <p:spPr>
            <a:xfrm>
              <a:off x="5913360" y="4046760"/>
              <a:ext cx="3219480" cy="2547720"/>
            </a:xfrm>
            <a:prstGeom prst="rect">
              <a:avLst/>
            </a:prstGeom>
            <a:solidFill>
              <a:srgbClr val="e2c5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o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O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20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mpromised Sc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1"/>
            <p:cNvSpPr/>
            <p:nvPr/>
          </p:nvSpPr>
          <p:spPr>
            <a:xfrm flipH="1" flipV="1">
              <a:off x="5213880" y="4644000"/>
              <a:ext cx="698760" cy="613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1219320" y="1595520"/>
            <a:ext cx="803268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a dissertation by Hui-Chen Tseng (2012) data from  patients admitted on 4 oncology units in a tertiary hospital were stu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nit G=Gynecology, Oral Surgery, &amp; Otolaryngology Unit H=Hematology/Oncology &amp; Palliativ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nit M=Medical Surgical Onc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nit A=Adult Leukemia &amp; Bone Marrow Trans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earch Focused 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cer Patie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tients with Cance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ui-Chen Tse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Content Placeholder 3" descr=""/>
          <p:cNvPicPr/>
          <p:nvPr/>
        </p:nvPicPr>
        <p:blipFill>
          <a:blip r:embed="rId1"/>
          <a:stretch/>
        </p:blipFill>
        <p:spPr>
          <a:xfrm>
            <a:off x="384120" y="1590840"/>
            <a:ext cx="3121200" cy="454788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2"/>
          <p:cNvSpPr/>
          <p:nvPr/>
        </p:nvSpPr>
        <p:spPr>
          <a:xfrm>
            <a:off x="3352680" y="1600200"/>
            <a:ext cx="518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otal of 3,335 hospitalizations provided 2,671 unique patients due to some patients having multiple admissions over the study period (June 1, 2010 - December 31,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3429000" y="3276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first admissions for patients with a care plan were entered into the study fo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3324240" y="4643280"/>
            <a:ext cx="5576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otal of 2,237 unique patients with a care plan, discharged from four specialty units with a diagnosis of cancer or under investigation for a possible cancer diagnosis were included for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finition of Linka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associatio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or relationship that exists between a patient, family, or community problem (nursing diagnosis) and a desired outcome (resolution or improvement of the problem). 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change in the outcom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is usually the result of an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interventio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by a nurse or other care provider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orhead et al, 2013, p. 571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44756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riptive retrospective design using care plan dat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total of 3,335 hospitalizations provided 2,671 unique patients due to some patients having multiple admissions over the study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ly first admissions for patients with a care plan were entered into the study for analysi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total of 2,237 patients with a possible cancer diagnosis were included for ana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st Frequent NANDA-I Diagnoses for 4 Cancer Uni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Object 7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7375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st Frequent NOCs for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Cancer Uni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Object 5" descr=""/>
          <p:cNvPicPr/>
          <p:nvPr/>
        </p:nvPicPr>
        <p:blipFill>
          <a:blip r:embed="rId1"/>
          <a:stretch/>
        </p:blipFill>
        <p:spPr>
          <a:xfrm>
            <a:off x="1371600" y="1681200"/>
            <a:ext cx="77328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st Frequent NICs for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Cancer Uni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Object 5" descr=""/>
          <p:cNvPicPr/>
          <p:nvPr/>
        </p:nvPicPr>
        <p:blipFill>
          <a:blip r:embed="rId1"/>
          <a:stretch/>
        </p:blipFill>
        <p:spPr>
          <a:xfrm>
            <a:off x="1444680" y="1828800"/>
            <a:ext cx="730548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st Frequently Used Link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Object 5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7094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19320" y="213012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ahoma"/>
              </a:rPr>
              <a:t>Validated Outcomes From this Research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2" descr="C:\Users\moorhead\AppData\Local\Microsoft\Windows\Temporary Internet Files\Content.IE5\4DN5GA82\checklist[1].png"/>
          <p:cNvPicPr/>
          <p:nvPr/>
        </p:nvPicPr>
        <p:blipFill>
          <a:blip r:embed="rId1"/>
          <a:stretch/>
        </p:blipFill>
        <p:spPr>
          <a:xfrm>
            <a:off x="5715000" y="3581280"/>
            <a:ext cx="2523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Text Placeholder 4"/>
          <p:cNvGrpSpPr/>
          <p:nvPr/>
        </p:nvGrpSpPr>
        <p:grpSpPr>
          <a:xfrm>
            <a:off x="2498760" y="176040"/>
            <a:ext cx="2286000" cy="671760"/>
            <a:chOff x="2498760" y="176040"/>
            <a:chExt cx="2286000" cy="671760"/>
          </a:xfrm>
        </p:grpSpPr>
        <p:pic>
          <p:nvPicPr>
            <p:cNvPr id="554" name="Text Placeholder 4" descr=""/>
            <p:cNvPicPr/>
            <p:nvPr/>
          </p:nvPicPr>
          <p:blipFill>
            <a:blip r:embed="rId1"/>
            <a:stretch/>
          </p:blipFill>
          <p:spPr>
            <a:xfrm>
              <a:off x="2498760" y="176040"/>
              <a:ext cx="22860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2514600" y="193680"/>
              <a:ext cx="2259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6" name="Title 1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268640"/>
          </a:xfrm>
          <a:prstGeom prst="rect">
            <a:avLst/>
          </a:prstGeom>
          <a:ln w="0">
            <a:noFill/>
          </a:ln>
        </p:spPr>
      </p:pic>
      <p:grpSp>
        <p:nvGrpSpPr>
          <p:cNvPr id="557" name="Text Placeholder 2"/>
          <p:cNvGrpSpPr/>
          <p:nvPr/>
        </p:nvGrpSpPr>
        <p:grpSpPr>
          <a:xfrm>
            <a:off x="822240" y="1736640"/>
            <a:ext cx="3689280" cy="652680"/>
            <a:chOff x="822240" y="1736640"/>
            <a:chExt cx="3689280" cy="652680"/>
          </a:xfrm>
        </p:grpSpPr>
        <p:pic>
          <p:nvPicPr>
            <p:cNvPr id="558" name="Text Placeholder 2" descr=""/>
            <p:cNvPicPr/>
            <p:nvPr/>
          </p:nvPicPr>
          <p:blipFill>
            <a:blip r:embed="rId3"/>
            <a:stretch/>
          </p:blipFill>
          <p:spPr>
            <a:xfrm>
              <a:off x="822240" y="1736640"/>
              <a:ext cx="368928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838080" y="1752480"/>
              <a:ext cx="365940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idated NO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 txBox="1"/>
          <p:nvPr/>
        </p:nvSpPr>
        <p:spPr>
          <a:xfrm>
            <a:off x="762120" y="2437920"/>
            <a:ext cx="3735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usea &amp; Vomiting Sever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Text Placeholder 4"/>
          <p:cNvGrpSpPr/>
          <p:nvPr/>
        </p:nvGrpSpPr>
        <p:grpSpPr>
          <a:xfrm>
            <a:off x="4627440" y="1719360"/>
            <a:ext cx="4071960" cy="669960"/>
            <a:chOff x="4627440" y="1719360"/>
            <a:chExt cx="4071960" cy="669960"/>
          </a:xfrm>
        </p:grpSpPr>
        <p:pic>
          <p:nvPicPr>
            <p:cNvPr id="562" name="Text Placeholder 4" descr=""/>
            <p:cNvPicPr/>
            <p:nvPr/>
          </p:nvPicPr>
          <p:blipFill>
            <a:blip r:embed="rId4"/>
            <a:stretch/>
          </p:blipFill>
          <p:spPr>
            <a:xfrm>
              <a:off x="4627440" y="1719360"/>
              <a:ext cx="40719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4645080" y="1733400"/>
              <a:ext cx="40417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idated NI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"/>
          <p:cNvSpPr txBox="1"/>
          <p:nvPr/>
        </p:nvSpPr>
        <p:spPr>
          <a:xfrm>
            <a:off x="4773600" y="2438280"/>
            <a:ext cx="3913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usea Manag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DC19-4923-4F81-AB2D-F72CC29D12B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5" descr="C:\Users\moorhead\AppData\Local\Microsoft\Windows\Temporary Internet Files\Content.IE5\MJPLQQQW\N1[1].jpg"/>
          <p:cNvPicPr/>
          <p:nvPr/>
        </p:nvPicPr>
        <p:blipFill>
          <a:blip r:embed="rId5"/>
          <a:stretch/>
        </p:blipFill>
        <p:spPr>
          <a:xfrm>
            <a:off x="5943600" y="4114800"/>
            <a:ext cx="21049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Text Placeholder 4"/>
          <p:cNvGrpSpPr/>
          <p:nvPr/>
        </p:nvGrpSpPr>
        <p:grpSpPr>
          <a:xfrm>
            <a:off x="2139840" y="212760"/>
            <a:ext cx="2286000" cy="671400"/>
            <a:chOff x="2139840" y="212760"/>
            <a:chExt cx="2286000" cy="671400"/>
          </a:xfrm>
        </p:grpSpPr>
        <p:pic>
          <p:nvPicPr>
            <p:cNvPr id="568" name="Text Placeholder 4" descr=""/>
            <p:cNvPicPr/>
            <p:nvPr/>
          </p:nvPicPr>
          <p:blipFill>
            <a:blip r:embed="rId1"/>
            <a:stretch/>
          </p:blipFill>
          <p:spPr>
            <a:xfrm>
              <a:off x="2139840" y="212760"/>
              <a:ext cx="22860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2157480" y="228600"/>
              <a:ext cx="22557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0" name="Title 3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268640"/>
          </a:xfrm>
          <a:prstGeom prst="rect">
            <a:avLst/>
          </a:prstGeom>
          <a:ln w="0">
            <a:noFill/>
          </a:ln>
        </p:spPr>
      </p:pic>
      <p:grpSp>
        <p:nvGrpSpPr>
          <p:cNvPr id="571" name="Text Placeholder 4"/>
          <p:cNvGrpSpPr/>
          <p:nvPr/>
        </p:nvGrpSpPr>
        <p:grpSpPr>
          <a:xfrm>
            <a:off x="822240" y="1657440"/>
            <a:ext cx="4073760" cy="671400"/>
            <a:chOff x="822240" y="1657440"/>
            <a:chExt cx="4073760" cy="671400"/>
          </a:xfrm>
        </p:grpSpPr>
        <p:pic>
          <p:nvPicPr>
            <p:cNvPr id="572" name="Text Placeholder 4" descr=""/>
            <p:cNvPicPr/>
            <p:nvPr/>
          </p:nvPicPr>
          <p:blipFill>
            <a:blip r:embed="rId3"/>
            <a:stretch/>
          </p:blipFill>
          <p:spPr>
            <a:xfrm>
              <a:off x="822240" y="1657440"/>
              <a:ext cx="407376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838080" y="1676520"/>
              <a:ext cx="40402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idated NO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 txBox="1"/>
          <p:nvPr/>
        </p:nvSpPr>
        <p:spPr>
          <a:xfrm>
            <a:off x="762120" y="2361960"/>
            <a:ext cx="3735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n Level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n Contro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n: Disruptive Effec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Text Placeholder 6"/>
          <p:cNvGrpSpPr/>
          <p:nvPr/>
        </p:nvGrpSpPr>
        <p:grpSpPr>
          <a:xfrm>
            <a:off x="5010120" y="1657440"/>
            <a:ext cx="4078440" cy="671400"/>
            <a:chOff x="5010120" y="1657440"/>
            <a:chExt cx="4078440" cy="671400"/>
          </a:xfrm>
        </p:grpSpPr>
        <p:pic>
          <p:nvPicPr>
            <p:cNvPr id="576" name="Text Placeholder 6" descr=""/>
            <p:cNvPicPr/>
            <p:nvPr/>
          </p:nvPicPr>
          <p:blipFill>
            <a:blip r:embed="rId4"/>
            <a:stretch/>
          </p:blipFill>
          <p:spPr>
            <a:xfrm>
              <a:off x="5010120" y="1657440"/>
              <a:ext cx="407844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5029200" y="1676520"/>
              <a:ext cx="4041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idated NI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 txBox="1"/>
          <p:nvPr/>
        </p:nvSpPr>
        <p:spPr>
          <a:xfrm>
            <a:off x="5029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n Manag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gesic Administ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otional Sup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6B45-47E0-4E57-ABEF-2F733FC8696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5" descr="C:\Users\moorhead\AppData\Local\Microsoft\Windows\Temporary Internet Files\Content.IE5\0M1VH00N\back-pain[1].png"/>
          <p:cNvPicPr/>
          <p:nvPr/>
        </p:nvPicPr>
        <p:blipFill>
          <a:blip r:embed="rId5"/>
          <a:stretch/>
        </p:blipFill>
        <p:spPr>
          <a:xfrm>
            <a:off x="533520" y="4648320"/>
            <a:ext cx="3429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Text Placeholder 4"/>
          <p:cNvGrpSpPr/>
          <p:nvPr/>
        </p:nvGrpSpPr>
        <p:grpSpPr>
          <a:xfrm>
            <a:off x="1968480" y="212760"/>
            <a:ext cx="2286000" cy="671400"/>
            <a:chOff x="1968480" y="212760"/>
            <a:chExt cx="2286000" cy="671400"/>
          </a:xfrm>
        </p:grpSpPr>
        <p:pic>
          <p:nvPicPr>
            <p:cNvPr id="582" name="Text Placeholder 4" descr=""/>
            <p:cNvPicPr/>
            <p:nvPr/>
          </p:nvPicPr>
          <p:blipFill>
            <a:blip r:embed="rId1"/>
            <a:stretch/>
          </p:blipFill>
          <p:spPr>
            <a:xfrm>
              <a:off x="1968480" y="212760"/>
              <a:ext cx="22860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1981080" y="228600"/>
              <a:ext cx="2259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NDA-I   Chronic Pai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patient Cancer Patie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Text Placeholder 2"/>
          <p:cNvGrpSpPr/>
          <p:nvPr/>
        </p:nvGrpSpPr>
        <p:grpSpPr>
          <a:xfrm>
            <a:off x="822240" y="1736640"/>
            <a:ext cx="4073760" cy="671760"/>
            <a:chOff x="822240" y="1736640"/>
            <a:chExt cx="4073760" cy="671760"/>
          </a:xfrm>
        </p:grpSpPr>
        <p:pic>
          <p:nvPicPr>
            <p:cNvPr id="586" name="Text Placeholder 2" descr=""/>
            <p:cNvPicPr/>
            <p:nvPr/>
          </p:nvPicPr>
          <p:blipFill>
            <a:blip r:embed="rId2"/>
            <a:stretch/>
          </p:blipFill>
          <p:spPr>
            <a:xfrm>
              <a:off x="822240" y="1736640"/>
              <a:ext cx="407376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838080" y="1752480"/>
              <a:ext cx="40402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idated NO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 txBox="1"/>
          <p:nvPr/>
        </p:nvSpPr>
        <p:spPr>
          <a:xfrm>
            <a:off x="914040" y="2362320"/>
            <a:ext cx="3583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n Level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n: Disruptive Effec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Text Placeholder 4"/>
          <p:cNvGrpSpPr/>
          <p:nvPr/>
        </p:nvGrpSpPr>
        <p:grpSpPr>
          <a:xfrm>
            <a:off x="5089680" y="1736640"/>
            <a:ext cx="3609720" cy="652680"/>
            <a:chOff x="5089680" y="1736640"/>
            <a:chExt cx="3609720" cy="652680"/>
          </a:xfrm>
        </p:grpSpPr>
        <p:pic>
          <p:nvPicPr>
            <p:cNvPr id="590" name="Text Placeholder 4" descr=""/>
            <p:cNvPicPr/>
            <p:nvPr/>
          </p:nvPicPr>
          <p:blipFill>
            <a:blip r:embed="rId3"/>
            <a:stretch/>
          </p:blipFill>
          <p:spPr>
            <a:xfrm>
              <a:off x="5089680" y="1736640"/>
              <a:ext cx="36097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5105520" y="1752480"/>
              <a:ext cx="358128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idated NI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 txBox="1"/>
          <p:nvPr/>
        </p:nvSpPr>
        <p:spPr>
          <a:xfrm>
            <a:off x="5105520" y="243792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n Manag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gesic Administ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otional Sup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A615-FF3E-4697-9D93-1F1EE889CA1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5" descr="C:\Users\moorhead\AppData\Local\Microsoft\Windows\Temporary Internet Files\Content.IE5\S35A67QI\PGIS_ChronicPain-150x150[1].jpg"/>
          <p:cNvPicPr/>
          <p:nvPr/>
        </p:nvPicPr>
        <p:blipFill>
          <a:blip r:embed="rId4"/>
          <a:stretch/>
        </p:blipFill>
        <p:spPr>
          <a:xfrm>
            <a:off x="152280" y="41911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Text Placeholder 4"/>
          <p:cNvGrpSpPr/>
          <p:nvPr/>
        </p:nvGrpSpPr>
        <p:grpSpPr>
          <a:xfrm>
            <a:off x="907920" y="103320"/>
            <a:ext cx="2286000" cy="671400"/>
            <a:chOff x="907920" y="103320"/>
            <a:chExt cx="2286000" cy="671400"/>
          </a:xfrm>
        </p:grpSpPr>
        <p:pic>
          <p:nvPicPr>
            <p:cNvPr id="596" name="Text Placeholder 4" descr=""/>
            <p:cNvPicPr/>
            <p:nvPr/>
          </p:nvPicPr>
          <p:blipFill>
            <a:blip r:embed="rId1"/>
            <a:stretch/>
          </p:blipFill>
          <p:spPr>
            <a:xfrm>
              <a:off x="907920" y="103320"/>
              <a:ext cx="22860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920880" y="122400"/>
              <a:ext cx="2259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8" name="Title 1" descr=""/>
          <p:cNvPicPr/>
          <p:nvPr/>
        </p:nvPicPr>
        <p:blipFill>
          <a:blip r:embed="rId2"/>
          <a:stretch/>
        </p:blipFill>
        <p:spPr>
          <a:xfrm>
            <a:off x="457200" y="36360"/>
            <a:ext cx="8229600" cy="1268640"/>
          </a:xfrm>
          <a:prstGeom prst="rect">
            <a:avLst/>
          </a:prstGeom>
          <a:ln w="0">
            <a:noFill/>
          </a:ln>
        </p:spPr>
      </p:pic>
      <p:grpSp>
        <p:nvGrpSpPr>
          <p:cNvPr id="599" name="Text Placeholder 2"/>
          <p:cNvGrpSpPr/>
          <p:nvPr/>
        </p:nvGrpSpPr>
        <p:grpSpPr>
          <a:xfrm>
            <a:off x="743040" y="1657440"/>
            <a:ext cx="3768480" cy="677880"/>
            <a:chOff x="743040" y="1657440"/>
            <a:chExt cx="3768480" cy="677880"/>
          </a:xfrm>
        </p:grpSpPr>
        <p:pic>
          <p:nvPicPr>
            <p:cNvPr id="600" name="Text Placeholder 2" descr=""/>
            <p:cNvPicPr/>
            <p:nvPr/>
          </p:nvPicPr>
          <p:blipFill>
            <a:blip r:embed="rId3"/>
            <a:stretch/>
          </p:blipFill>
          <p:spPr>
            <a:xfrm>
              <a:off x="743040" y="1657440"/>
              <a:ext cx="376848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762120" y="1676520"/>
              <a:ext cx="37353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idated NO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 txBox="1"/>
          <p:nvPr/>
        </p:nvSpPr>
        <p:spPr>
          <a:xfrm>
            <a:off x="380520" y="2437920"/>
            <a:ext cx="4116600" cy="39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ssue Integrity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kin &amp; Mucou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bran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rn Heal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Text Placeholder 4"/>
          <p:cNvGrpSpPr/>
          <p:nvPr/>
        </p:nvGrpSpPr>
        <p:grpSpPr>
          <a:xfrm>
            <a:off x="4627440" y="1663560"/>
            <a:ext cx="4071960" cy="671760"/>
            <a:chOff x="4627440" y="1663560"/>
            <a:chExt cx="4071960" cy="671760"/>
          </a:xfrm>
        </p:grpSpPr>
        <p:pic>
          <p:nvPicPr>
            <p:cNvPr id="604" name="Text Placeholder 4" descr=""/>
            <p:cNvPicPr/>
            <p:nvPr/>
          </p:nvPicPr>
          <p:blipFill>
            <a:blip r:embed="rId4"/>
            <a:stretch/>
          </p:blipFill>
          <p:spPr>
            <a:xfrm>
              <a:off x="4627440" y="1663560"/>
              <a:ext cx="407196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4645080" y="1681200"/>
              <a:ext cx="4041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idated NI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"/>
          <p:cNvSpPr txBox="1"/>
          <p:nvPr/>
        </p:nvSpPr>
        <p:spPr>
          <a:xfrm>
            <a:off x="4645080" y="2320920"/>
            <a:ext cx="43466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und Ca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kin Surveill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sure Manag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sure Ulcer Ca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izure Precau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ot Ca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2FA3-AFB0-489B-B79F-CC3B67FE630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3" descr="C:\Users\moorhead\AppData\Local\Microsoft\Windows\Temporary Internet Files\Content.IE5\O0UAGXY1\469781013[1].jpg"/>
          <p:cNvPicPr/>
          <p:nvPr/>
        </p:nvPicPr>
        <p:blipFill>
          <a:blip r:embed="rId5"/>
          <a:stretch/>
        </p:blipFill>
        <p:spPr>
          <a:xfrm>
            <a:off x="457200" y="5029200"/>
            <a:ext cx="2895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nefits of Link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elp nurses address the complexity of patient care situations in a focused manner consistent with the nursing proc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3" descr="C:\Users\ssweeney\AppData\Local\Microsoft\Windows\Temporary Internet Files\Content.IE5\SYIE5PHN\constructivism[1].jpg"/>
          <p:cNvPicPr/>
          <p:nvPr/>
        </p:nvPicPr>
        <p:blipFill>
          <a:blip r:embed="rId1"/>
          <a:stretch/>
        </p:blipFill>
        <p:spPr>
          <a:xfrm>
            <a:off x="3124080" y="3276720"/>
            <a:ext cx="550224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TextBox 6"/>
          <p:cNvGrpSpPr/>
          <p:nvPr/>
        </p:nvGrpSpPr>
        <p:grpSpPr>
          <a:xfrm>
            <a:off x="1968480" y="237960"/>
            <a:ext cx="2286000" cy="579600"/>
            <a:chOff x="1968480" y="237960"/>
            <a:chExt cx="2286000" cy="579600"/>
          </a:xfrm>
        </p:grpSpPr>
        <p:pic>
          <p:nvPicPr>
            <p:cNvPr id="610" name="TextBox 6" descr=""/>
            <p:cNvPicPr/>
            <p:nvPr/>
          </p:nvPicPr>
          <p:blipFill>
            <a:blip r:embed="rId1"/>
            <a:stretch/>
          </p:blipFill>
          <p:spPr>
            <a:xfrm>
              <a:off x="1968480" y="237960"/>
              <a:ext cx="228600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1982880" y="252360"/>
              <a:ext cx="2259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NDA-I   Risk for Fal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patient Cancer Patie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Text Placeholder 2"/>
          <p:cNvGrpSpPr/>
          <p:nvPr/>
        </p:nvGrpSpPr>
        <p:grpSpPr>
          <a:xfrm>
            <a:off x="743040" y="1657440"/>
            <a:ext cx="3768480" cy="731880"/>
            <a:chOff x="743040" y="1657440"/>
            <a:chExt cx="3768480" cy="731880"/>
          </a:xfrm>
        </p:grpSpPr>
        <p:pic>
          <p:nvPicPr>
            <p:cNvPr id="614" name="Text Placeholder 2" descr=""/>
            <p:cNvPicPr/>
            <p:nvPr/>
          </p:nvPicPr>
          <p:blipFill>
            <a:blip r:embed="rId2"/>
            <a:stretch/>
          </p:blipFill>
          <p:spPr>
            <a:xfrm>
              <a:off x="743040" y="1657440"/>
              <a:ext cx="37684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62120" y="1676520"/>
              <a:ext cx="373536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idated NO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 txBox="1"/>
          <p:nvPr/>
        </p:nvSpPr>
        <p:spPr>
          <a:xfrm>
            <a:off x="837720" y="2437920"/>
            <a:ext cx="365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ledge: Fall Preven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l Prevention Behavi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Text Placeholder 4"/>
          <p:cNvGrpSpPr/>
          <p:nvPr/>
        </p:nvGrpSpPr>
        <p:grpSpPr>
          <a:xfrm>
            <a:off x="4632480" y="1657440"/>
            <a:ext cx="4066920" cy="731880"/>
            <a:chOff x="4632480" y="1657440"/>
            <a:chExt cx="4066920" cy="731880"/>
          </a:xfrm>
        </p:grpSpPr>
        <p:pic>
          <p:nvPicPr>
            <p:cNvPr id="618" name="Text Placeholder 4" descr=""/>
            <p:cNvPicPr/>
            <p:nvPr/>
          </p:nvPicPr>
          <p:blipFill>
            <a:blip r:embed="rId3"/>
            <a:stretch/>
          </p:blipFill>
          <p:spPr>
            <a:xfrm>
              <a:off x="4632480" y="1657440"/>
              <a:ext cx="406692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4648320" y="1676520"/>
              <a:ext cx="403848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idated NI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"/>
          <p:cNvSpPr txBox="1"/>
          <p:nvPr/>
        </p:nvSpPr>
        <p:spPr>
          <a:xfrm>
            <a:off x="4644720" y="237312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l Preven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91C7-D37F-4DB4-BFB8-D84949B0790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5" descr="C:\Users\moorhead\AppData\Local\Microsoft\Windows\Temporary Internet Files\Content.IE5\H7LXC61C\falling_man[1].jpg"/>
          <p:cNvPicPr/>
          <p:nvPr/>
        </p:nvPicPr>
        <p:blipFill>
          <a:blip r:embed="rId4"/>
          <a:stretch/>
        </p:blipFill>
        <p:spPr>
          <a:xfrm>
            <a:off x="4648320" y="3262320"/>
            <a:ext cx="41018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re Specialty Practi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16292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C provides outcomes for specialty practi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1400" indent="-22140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fer insight to the holistic view of nursing outcomes from all domains in taxonom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1400" indent="-22140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es important scope of practice of the special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1400" indent="-22140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is of core curriculum for specialty area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1400" indent="-22140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specialties could identify a short list of 20 outcom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finition: Core Outco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02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oncise set of outcomes that capture the essence of specialty practice but is not comprehensive enough to include all outcomes used by nurses working in that special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4" descr="C:\Users\moorhead\AppData\Local\Microsoft\Windows\Temporary Internet Files\Content.IE5\PB77U8QG\Core-design-logo[1].png"/>
          <p:cNvPicPr/>
          <p:nvPr/>
        </p:nvPicPr>
        <p:blipFill>
          <a:blip r:embed="rId1"/>
          <a:stretch/>
        </p:blipFill>
        <p:spPr>
          <a:xfrm>
            <a:off x="5486400" y="5410080"/>
            <a:ext cx="31748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19320" y="213012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ahoma"/>
              </a:rPr>
              <a:t>Research Focused on Use of NOC in Specialty Practi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re Outcom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2" descr="C:\Users\moorhead\AppData\Local\Microsoft\Windows\Temporary Internet Files\Content.IE5\HCM8UFFZ\MP900409080[1].jpg"/>
          <p:cNvPicPr/>
          <p:nvPr/>
        </p:nvPicPr>
        <p:blipFill>
          <a:blip r:embed="rId1"/>
          <a:srcRect l="0" t="0" r="9985" b="0"/>
          <a:stretch/>
        </p:blipFill>
        <p:spPr>
          <a:xfrm>
            <a:off x="7010280" y="3657600"/>
            <a:ext cx="15192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rontology Nursing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p 7 Outc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tritional Statu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al Healt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tritional Status: Energ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tritional Status: Food &amp; Fluid Intak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rinary Elimin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l Prevention Behavi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l Sig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Picture 18" descr="C:\Users\ssweeney\AppData\Local\Microsoft\Windows\Temporary Internet Files\Content.IE5\GJJ05Y5V\MPj04075010000[1].jpg"/>
          <p:cNvPicPr/>
          <p:nvPr/>
        </p:nvPicPr>
        <p:blipFill>
          <a:blip r:embed="rId1"/>
          <a:stretch/>
        </p:blipFill>
        <p:spPr>
          <a:xfrm>
            <a:off x="6248520" y="4951440"/>
            <a:ext cx="2819160" cy="18795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7" descr="C:\Users\ssweeney\AppData\Local\Microsoft\Windows\Temporary Internet Files\Content.IE5\OJBM2HND\MPj04223440000[1].jpg"/>
          <p:cNvPicPr/>
          <p:nvPr/>
        </p:nvPicPr>
        <p:blipFill>
          <a:blip r:embed="rId2"/>
          <a:stretch/>
        </p:blipFill>
        <p:spPr>
          <a:xfrm>
            <a:off x="7515360" y="457200"/>
            <a:ext cx="1371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dical-Surgical Nursing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p 8 Outc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ital Sign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lf-Care:  Toileting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utritional Status:  Food and Fluid Intake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Knowledge:  Medica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mbulation:  Walking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hysical Aging Statu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2" descr="C:\Users\moorhead\AppData\Local\Microsoft\Windows\Temporary Internet Files\Content.IE5\HCM8UFFZ\MP900426551[1].jpg"/>
          <p:cNvPicPr/>
          <p:nvPr/>
        </p:nvPicPr>
        <p:blipFill>
          <a:blip r:embed="rId1"/>
          <a:stretch/>
        </p:blipFill>
        <p:spPr>
          <a:xfrm>
            <a:off x="5791320" y="3352680"/>
            <a:ext cx="3047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chnology is Everywhere in Our Personal Life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3" descr="C:\Users\moorhead\AppData\Local\Microsoft\Windows\Temporary Internet Files\Content.IE5\3HHFX2XN\0[1].jpg"/>
          <p:cNvPicPr/>
          <p:nvPr/>
        </p:nvPicPr>
        <p:blipFill>
          <a:blip r:embed="rId1"/>
          <a:stretch/>
        </p:blipFill>
        <p:spPr>
          <a:xfrm>
            <a:off x="2286000" y="1523880"/>
            <a:ext cx="6172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19320" y="2313000"/>
            <a:ext cx="723888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ahoma"/>
              </a:rPr>
              <a:t>12 Strategies for Using NNN in Electronic Health Recor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371600" y="471024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 more paper char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2" descr="C:\Users\moorhead\AppData\Local\Microsoft\Windows\Temporary Internet Files\Content.IE5\0H7R2KEU\Digital-Hospital-262-wide[1].jpg"/>
          <p:cNvPicPr/>
          <p:nvPr/>
        </p:nvPicPr>
        <p:blipFill>
          <a:blip r:embed="rId1"/>
          <a:stretch/>
        </p:blipFill>
        <p:spPr>
          <a:xfrm>
            <a:off x="1981080" y="379440"/>
            <a:ext cx="2514600" cy="16668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5" descr="C:\Users\moorhead\AppData\Local\Microsoft\Windows\Temporary Internet Files\Content.IE5\ACH2MYM1\centricityemr_productimage[1].gif"/>
          <p:cNvPicPr/>
          <p:nvPr/>
        </p:nvPicPr>
        <p:blipFill>
          <a:blip r:embed="rId2"/>
          <a:stretch/>
        </p:blipFill>
        <p:spPr>
          <a:xfrm>
            <a:off x="6005520" y="112680"/>
            <a:ext cx="2809800" cy="22003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C:\Users\moorhead\AppData\Local\Microsoft\Windows\Temporary Internet Files\Content.IE5\G61T11NZ\081111_medicocom2-300x198[1].jpg"/>
          <p:cNvPicPr/>
          <p:nvPr/>
        </p:nvPicPr>
        <p:blipFill>
          <a:blip r:embed="rId3"/>
          <a:stretch/>
        </p:blipFill>
        <p:spPr>
          <a:xfrm>
            <a:off x="6270480" y="4956120"/>
            <a:ext cx="28576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egy #1 for Using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219320" y="14479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know very little about the focus of nursing care in our organiz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the top 10 nursing diagnoses used in your organization &amp; top 10 for each un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the most frequently used nursing interventions for the organization and each un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top outcomes for your organization and each un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95280" y="8380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trategy #2 for Using NNN</a:t>
            </a:r>
            <a:br>
              <a:rPr sz="4200"/>
            </a:b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7238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key patient popul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elop plans of care using NN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NNN linkages for orientation of new staff or stud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ect data to build evidence-based practi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sure trends in outcomes for    populations over tim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nefits of Link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371600" y="1294920"/>
            <a:ext cx="731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s the development of NANDA-I diagnoses, NOC outcomes and NIC interventions thus increasing the knowledge base of nurs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3" descr="C:\Users\moorhead\AppData\Local\Microsoft\Windows\Temporary Internet Files\Content.IE5\MJPLQQQW\knowledge_ignorance[1].jpg"/>
          <p:cNvPicPr/>
          <p:nvPr/>
        </p:nvPicPr>
        <p:blipFill>
          <a:blip r:embed="rId1"/>
          <a:stretch/>
        </p:blipFill>
        <p:spPr>
          <a:xfrm>
            <a:off x="1523880" y="3886200"/>
            <a:ext cx="6096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egy #3 for Using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21932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most organizations the top 10 nursing diagnoses account for 85% of the patients treated by the organization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: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HR does not need to include all concepts from NANDA-I, NIC, and NOC.  Start small, add as you identify other diagnoses, outcomes, and interventions you ne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egy #4 for Using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218960" y="1447560"/>
            <a:ext cx="7467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ucation on NNN is critical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 for several sessions of orientation; double or triple the time allocated for learning the basi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sessions work better than long presentations; hands on bes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erience with computer applications does shorten the tim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egy #5 for Using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1218960" y="1294920"/>
            <a:ext cx="7467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e studies developed by nurses in your organization are most usefu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ase studies need to fit the patients the nurses care for every d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rses need to have several opportunities to rate outcomes for a patient over the hospital stay as the situation chang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suring outcomes will be the biggest challen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egy #6 for Using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1218960" y="14479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most hospitals teaching interventions are close to 50% of treatm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lude teaching interventions in every care pla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ize the teaching strategies to the patient’s knowledg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ize the teaching to the patient’s preferred learning sty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egy #7 for Using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218960" y="1219320"/>
            <a:ext cx="7467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t Champions are useful as change ag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y want to include nurses that will resist the chan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pare Champions for answering basic questions about NN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Champions to build unit case studie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general, younger nurses handle the IT issues more easil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egy #8 for Using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218960" y="1447560"/>
            <a:ext cx="7467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comes can be used and shared across disciplines- they are about the pati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of NOC can increase interdisciplinary practice collaboration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 a focus on a team approach to ca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outcomes of current practice quarterl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egy #9 for Using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218960" y="13712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tients need to be able to care for their chronic health conditions after discharg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ledge outcomes for specific conditions help the patient learn about their health challeng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f-Management outcomes support behavior changes that improve healt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tient can measure their progress post dischar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egy #10 for Using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218960" y="13712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rse competencies need to be evaluat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C can be used to measure nurse competency (yearly or at time of hir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etency evaluation should be consistent with nurses work setting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rses who work in multiple settings should maintain a longer competency lis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etency can determine who “floats”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egy #11 for Using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1218960" y="13712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rses want to get feedback on their performance that has mean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comes of individual nurses can be shar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rses with the best patient outcomes can share their strategies in meeting patient need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rses can be rewarded for their care- to increase satisfaction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egy #12 for Using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218960" y="13712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cus is on getting data in the EH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 to focus also on getting data ou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are reports you want with the vendor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nefits of Link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475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es nurses to be knowledge workers in society and recognized for their experti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2" descr="C:\Users\moorhead\AppData\Local\Microsoft\Windows\Temporary Internet Files\Content.IE5\H7LXC61C\knowledge_worker[1].jpg"/>
          <p:cNvPicPr/>
          <p:nvPr/>
        </p:nvPicPr>
        <p:blipFill>
          <a:blip r:embed="rId1"/>
          <a:stretch/>
        </p:blipFill>
        <p:spPr>
          <a:xfrm>
            <a:off x="3048120" y="3124080"/>
            <a:ext cx="3771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Key to the Futu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r efforts in language development have placed nursing in a key position to provide important key concepts for the electronic health record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pportunities exist to use actual nursing data to conduct outcome evaluation, quality improvement, and effectiveness research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ursing is poised to be a leader in this endeavor! 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78487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447920" y="1371240"/>
            <a:ext cx="7619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ulechek, G., Butcher, H., Dochterman, J., &amp; Wagner, C. (Eds.). (2013).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ursing interventions classification (NIC) (6th ed.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St. Louis: Elsevier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erdman, T. H. &amp; Kamitsuro, S. (Eds.). (2015).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ANDA International nursing diagnoses: Definitions and classification 2015-201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Oxford, UK: Wiley-Blackwell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ohnson, M., Moorhead, S., Bulechek, G., Butcher, H., Maas, M., &amp; Swanson, E. (Eds.). (2012).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OC and NIC linkages to NANDA-I and clinical conditions: Supporting critical reasoning and quality car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3rd ed.). Maryland Heights, MO: Elsevier Mosby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orhead, S., Johnson, M., Maas, M., &amp; Swanson, E. (Eds.). (2013).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ursing outcomes classification (NOC): Measurement of health outcomes (5th ed.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St. Louis: Elsevier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1218960" y="1600200"/>
            <a:ext cx="7467480" cy="45259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" descr="C:\Users\moorhead\AppData\Local\Microsoft\Windows\Temporary Internet Files\Content.IE5\12Z0CADB\10582_bigstock-Questions-8[1].jpg"/>
          <p:cNvPicPr/>
          <p:nvPr/>
        </p:nvPicPr>
        <p:blipFill>
          <a:blip r:embed="rId2"/>
          <a:stretch/>
        </p:blipFill>
        <p:spPr>
          <a:xfrm>
            <a:off x="1676520" y="1295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Content Placeholder 2"/>
          <p:cNvSpPr/>
          <p:nvPr/>
        </p:nvSpPr>
        <p:spPr>
          <a:xfrm>
            <a:off x="1295280" y="2895480"/>
            <a:ext cx="7763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69960" indent="-325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e Moorhead, PhD, RN, F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ssociate Professor &amp; Director Center for Nursing Classification &amp; Clinical Effe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University of Iowa  College of Nu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owa City, Iowa 52242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ue-moorhead@uiowa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lassification-center@uiowa.edu 319-335-70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2"/>
          <p:cNvGrpSpPr/>
          <p:nvPr/>
        </p:nvGrpSpPr>
        <p:grpSpPr>
          <a:xfrm>
            <a:off x="1222200" y="533520"/>
            <a:ext cx="7925040" cy="2133360"/>
            <a:chOff x="1222200" y="533520"/>
            <a:chExt cx="7925040" cy="2133360"/>
          </a:xfrm>
        </p:grpSpPr>
        <p:sp>
          <p:nvSpPr>
            <p:cNvPr id="678" name="Rectangle 3"/>
            <p:cNvSpPr/>
            <p:nvPr/>
          </p:nvSpPr>
          <p:spPr>
            <a:xfrm>
              <a:off x="1222200" y="1295280"/>
              <a:ext cx="792504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9" name="Picture 7" descr="redbud"/>
            <p:cNvPicPr/>
            <p:nvPr/>
          </p:nvPicPr>
          <p:blipFill>
            <a:blip r:embed="rId1"/>
            <a:stretch/>
          </p:blipFill>
          <p:spPr>
            <a:xfrm>
              <a:off x="4661280" y="533520"/>
              <a:ext cx="3785040" cy="21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0" name="Group 2"/>
          <p:cNvGrpSpPr/>
          <p:nvPr/>
        </p:nvGrpSpPr>
        <p:grpSpPr>
          <a:xfrm>
            <a:off x="1547640" y="914400"/>
            <a:ext cx="2586240" cy="1139760"/>
            <a:chOff x="1547640" y="914400"/>
            <a:chExt cx="2586240" cy="1139760"/>
          </a:xfrm>
        </p:grpSpPr>
        <p:pic>
          <p:nvPicPr>
            <p:cNvPr id="681" name="Picture 3" descr="CONHorizontalBlack"/>
            <p:cNvPicPr/>
            <p:nvPr/>
          </p:nvPicPr>
          <p:blipFill>
            <a:blip r:embed="rId2"/>
            <a:stretch/>
          </p:blipFill>
          <p:spPr>
            <a:xfrm>
              <a:off x="1650960" y="914400"/>
              <a:ext cx="226764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 Box 4"/>
            <p:cNvSpPr/>
            <p:nvPr/>
          </p:nvSpPr>
          <p:spPr>
            <a:xfrm>
              <a:off x="1870920" y="1635120"/>
              <a:ext cx="22629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The Center for Nursing Classification &amp; Clinical Effectivene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3" name="Picture 0" descr="CNC Logo NOwords.tif"/>
            <p:cNvPicPr/>
            <p:nvPr/>
          </p:nvPicPr>
          <p:blipFill>
            <a:blip r:embed="rId3"/>
            <a:srcRect l="0" t="0" r="16759" b="23898"/>
            <a:stretch/>
          </p:blipFill>
          <p:spPr>
            <a:xfrm>
              <a:off x="1547640" y="1622160"/>
              <a:ext cx="411120" cy="35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9320" y="213012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ahoma"/>
              </a:rPr>
              <a:t>Using NOC Measurement Scales: Case Study Examp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Picture 3" descr="C:\Users\ssweeney\AppData\Local\Microsoft\Windows\Temporary Internet Files\Content.IE5\51UUINOY\Old_man_in_Kyrgyzstan,_2010[1].jpg"/>
          <p:cNvPicPr/>
          <p:nvPr/>
        </p:nvPicPr>
        <p:blipFill>
          <a:blip r:embed="rId1"/>
          <a:srcRect l="43138" t="0" r="0" b="0"/>
          <a:stretch/>
        </p:blipFill>
        <p:spPr>
          <a:xfrm>
            <a:off x="5943600" y="3641760"/>
            <a:ext cx="266688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6:00:59Z</dcterms:created>
  <dc:creator>Sharon K. Sweeney</dc:creator>
  <dc:description/>
  <dc:language>en-US</dc:language>
  <cp:lastModifiedBy>moorhead</cp:lastModifiedBy>
  <cp:lastPrinted>2017-11-03T19:44:52Z</cp:lastPrinted>
  <dcterms:modified xsi:type="dcterms:W3CDTF">2017-11-15T22:42:50Z</dcterms:modified>
  <cp:revision>69</cp:revision>
  <dc:subject/>
  <dc:title>Slide 1</dc:title>
</cp:coreProperties>
</file>